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3E1-9DC2-4122-9791-F69245A3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332-AC2C-4AD2-A342-D8BAACD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EBA-24B9-4E2E-8420-C510C116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0B1-B3FB-413D-96C6-01E0E16B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91A-33BE-4C3D-BAD0-F5DC9EB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6BC-16EC-44D0-9945-879FEFC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97F-DD95-4679-87A5-0A682CD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F19-BD1A-42FA-A646-CEB214B1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0A1-4D97-4229-8BCB-9C7678B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9F2-B9C3-4BD0-B52E-1A05EE1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517-C56E-49E7-BF9B-3546834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719-3E68-448F-95E4-242CCDD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B45-BC4F-4C0D-AD1E-971EC5709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Review Day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me what you know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Notes and Calculator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7800" y="4367160"/>
            <a:ext cx="4680000" cy="598680"/>
          </a:xfrm>
          <a:custGeom>
            <a:avLst/>
            <a:gdLst/>
            <a:ahLst/>
            <a:rect l="l" t="t" r="r" b="b"/>
            <a:pathLst>
              <a:path w="12999" h="1663">
                <a:moveTo>
                  <a:pt x="16470" y="12254"/>
                </a:moveTo>
                <a:cubicBezTo>
                  <a:pt x="16581" y="12254"/>
                  <a:pt x="16759" y="12235"/>
                  <a:pt x="16892" y="12229"/>
                </a:cubicBezTo>
                <a:cubicBezTo>
                  <a:pt x="17111" y="12218"/>
                  <a:pt x="17342" y="12181"/>
                  <a:pt x="17562" y="12204"/>
                </a:cubicBezTo>
                <a:cubicBezTo>
                  <a:pt x="17743" y="12223"/>
                  <a:pt x="17900" y="12191"/>
                  <a:pt x="18083" y="12179"/>
                </a:cubicBezTo>
                <a:cubicBezTo>
                  <a:pt x="18309" y="12165"/>
                  <a:pt x="18524" y="12129"/>
                  <a:pt x="18752" y="12129"/>
                </a:cubicBezTo>
                <a:cubicBezTo>
                  <a:pt x="19192" y="12129"/>
                  <a:pt x="19629" y="12131"/>
                  <a:pt x="20067" y="12154"/>
                </a:cubicBezTo>
                <a:cubicBezTo>
                  <a:pt x="20275" y="12165"/>
                  <a:pt x="20478" y="12179"/>
                  <a:pt x="20687" y="12179"/>
                </a:cubicBezTo>
                <a:cubicBezTo>
                  <a:pt x="20888" y="12179"/>
                  <a:pt x="21082" y="12157"/>
                  <a:pt x="21282" y="12154"/>
                </a:cubicBezTo>
                <a:cubicBezTo>
                  <a:pt x="21458" y="12151"/>
                  <a:pt x="21626" y="12129"/>
                  <a:pt x="21803" y="12129"/>
                </a:cubicBezTo>
                <a:cubicBezTo>
                  <a:pt x="21839" y="12129"/>
                  <a:pt x="21895" y="12123"/>
                  <a:pt x="21803" y="12129"/>
                </a:cubicBezTo>
                <a:cubicBezTo>
                  <a:pt x="21720" y="12137"/>
                  <a:pt x="21638" y="12146"/>
                  <a:pt x="21555" y="12154"/>
                </a:cubicBezTo>
              </a:path>
              <a:path w="12999" h="1663">
                <a:moveTo>
                  <a:pt x="8855" y="13791"/>
                </a:moveTo>
                <a:cubicBezTo>
                  <a:pt x="9003" y="13764"/>
                  <a:pt x="9150" y="13734"/>
                  <a:pt x="9302" y="13717"/>
                </a:cubicBezTo>
                <a:cubicBezTo>
                  <a:pt x="9914" y="13648"/>
                  <a:pt x="10527" y="13599"/>
                  <a:pt x="11137" y="13519"/>
                </a:cubicBezTo>
                <a:cubicBezTo>
                  <a:pt x="11713" y="13443"/>
                  <a:pt x="12296" y="13416"/>
                  <a:pt x="12874" y="13395"/>
                </a:cubicBezTo>
                <a:cubicBezTo>
                  <a:pt x="13164" y="13385"/>
                  <a:pt x="13451" y="13370"/>
                  <a:pt x="13742" y="13370"/>
                </a:cubicBezTo>
                <a:cubicBezTo>
                  <a:pt x="14231" y="13370"/>
                  <a:pt x="14718" y="13365"/>
                  <a:pt x="15205" y="13345"/>
                </a:cubicBezTo>
                <a:cubicBezTo>
                  <a:pt x="15478" y="13334"/>
                  <a:pt x="15751" y="13306"/>
                  <a:pt x="16024" y="13295"/>
                </a:cubicBezTo>
                <a:cubicBezTo>
                  <a:pt x="16173" y="13289"/>
                  <a:pt x="16389" y="13329"/>
                  <a:pt x="16520" y="13320"/>
                </a:cubicBezTo>
                <a:cubicBezTo>
                  <a:pt x="16520" y="13295"/>
                  <a:pt x="16520" y="13287"/>
                  <a:pt x="16545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9640" y="4956120"/>
            <a:ext cx="312480" cy="241200"/>
          </a:xfrm>
          <a:custGeom>
            <a:avLst/>
            <a:gdLst/>
            <a:ahLst/>
            <a:rect l="l" t="t" r="r" b="b"/>
            <a:pathLst>
              <a:path w="869" h="670">
                <a:moveTo>
                  <a:pt x="12750" y="13816"/>
                </a:moveTo>
                <a:cubicBezTo>
                  <a:pt x="12750" y="13699"/>
                  <a:pt x="12750" y="13868"/>
                  <a:pt x="12750" y="13891"/>
                </a:cubicBezTo>
                <a:cubicBezTo>
                  <a:pt x="12750" y="14104"/>
                  <a:pt x="12675" y="14366"/>
                  <a:pt x="12973" y="14337"/>
                </a:cubicBezTo>
                <a:cubicBezTo>
                  <a:pt x="13121" y="14323"/>
                  <a:pt x="13255" y="14241"/>
                  <a:pt x="13395" y="14213"/>
                </a:cubicBezTo>
              </a:path>
              <a:path w="869" h="670">
                <a:moveTo>
                  <a:pt x="13196" y="13940"/>
                </a:moveTo>
                <a:cubicBezTo>
                  <a:pt x="13336" y="14002"/>
                  <a:pt x="13477" y="14068"/>
                  <a:pt x="13593" y="14139"/>
                </a:cubicBezTo>
                <a:cubicBezTo>
                  <a:pt x="13657" y="14179"/>
                  <a:pt x="13487" y="14359"/>
                  <a:pt x="13444" y="14412"/>
                </a:cubicBezTo>
                <a:cubicBezTo>
                  <a:pt x="13421" y="14434"/>
                  <a:pt x="13410" y="14442"/>
                  <a:pt x="13444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81760" y="5072040"/>
            <a:ext cx="49032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14139" y="14139"/>
                </a:moveTo>
                <a:cubicBezTo>
                  <a:pt x="14132" y="14279"/>
                  <a:pt x="14101" y="14419"/>
                  <a:pt x="14114" y="14560"/>
                </a:cubicBezTo>
                <a:cubicBezTo>
                  <a:pt x="14134" y="14785"/>
                  <a:pt x="14299" y="14642"/>
                  <a:pt x="14387" y="14536"/>
                </a:cubicBezTo>
                <a:cubicBezTo>
                  <a:pt x="14459" y="14415"/>
                  <a:pt x="14483" y="14377"/>
                  <a:pt x="14511" y="14288"/>
                </a:cubicBezTo>
                <a:cubicBezTo>
                  <a:pt x="14511" y="14213"/>
                  <a:pt x="14511" y="14155"/>
                  <a:pt x="14511" y="14213"/>
                </a:cubicBezTo>
                <a:cubicBezTo>
                  <a:pt x="14439" y="14397"/>
                  <a:pt x="14422" y="14483"/>
                  <a:pt x="14511" y="14660"/>
                </a:cubicBezTo>
                <a:cubicBezTo>
                  <a:pt x="14700" y="14616"/>
                  <a:pt x="14762" y="14473"/>
                  <a:pt x="14833" y="14288"/>
                </a:cubicBezTo>
                <a:cubicBezTo>
                  <a:pt x="14853" y="14237"/>
                  <a:pt x="14850" y="14217"/>
                  <a:pt x="14858" y="14163"/>
                </a:cubicBezTo>
                <a:cubicBezTo>
                  <a:pt x="14953" y="14229"/>
                  <a:pt x="15094" y="14342"/>
                  <a:pt x="15032" y="14486"/>
                </a:cubicBezTo>
                <a:cubicBezTo>
                  <a:pt x="14992" y="14579"/>
                  <a:pt x="14875" y="14473"/>
                  <a:pt x="14858" y="14461"/>
                </a:cubicBezTo>
                <a:cubicBezTo>
                  <a:pt x="14928" y="14496"/>
                  <a:pt x="15018" y="14504"/>
                  <a:pt x="15131" y="14486"/>
                </a:cubicBezTo>
                <a:cubicBezTo>
                  <a:pt x="15286" y="14462"/>
                  <a:pt x="15412" y="14378"/>
                  <a:pt x="15453" y="14213"/>
                </a:cubicBezTo>
                <a:cubicBezTo>
                  <a:pt x="15489" y="14068"/>
                  <a:pt x="15447" y="14133"/>
                  <a:pt x="15429" y="14089"/>
                </a:cubicBezTo>
                <a:cubicBezTo>
                  <a:pt x="15371" y="14182"/>
                  <a:pt x="15284" y="14364"/>
                  <a:pt x="15404" y="14461"/>
                </a:cubicBezTo>
                <a:cubicBezTo>
                  <a:pt x="15429" y="14461"/>
                  <a:pt x="15453" y="14461"/>
                  <a:pt x="15478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929120"/>
            <a:ext cx="83052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16669" y="14213"/>
                </a:moveTo>
                <a:cubicBezTo>
                  <a:pt x="16652" y="14178"/>
                  <a:pt x="16558" y="14070"/>
                  <a:pt x="16495" y="14114"/>
                </a:cubicBezTo>
                <a:cubicBezTo>
                  <a:pt x="16365" y="14204"/>
                  <a:pt x="16336" y="14376"/>
                  <a:pt x="16297" y="14511"/>
                </a:cubicBezTo>
                <a:cubicBezTo>
                  <a:pt x="16416" y="14550"/>
                  <a:pt x="16669" y="14637"/>
                  <a:pt x="16718" y="14436"/>
                </a:cubicBezTo>
                <a:cubicBezTo>
                  <a:pt x="16768" y="14232"/>
                  <a:pt x="16668" y="14052"/>
                  <a:pt x="16619" y="13866"/>
                </a:cubicBezTo>
                <a:cubicBezTo>
                  <a:pt x="16619" y="13841"/>
                  <a:pt x="16619" y="13833"/>
                  <a:pt x="16644" y="13841"/>
                </a:cubicBezTo>
                <a:cubicBezTo>
                  <a:pt x="16673" y="14006"/>
                  <a:pt x="16631" y="14327"/>
                  <a:pt x="16718" y="14461"/>
                </a:cubicBezTo>
                <a:cubicBezTo>
                  <a:pt x="16735" y="14461"/>
                  <a:pt x="16751" y="14461"/>
                  <a:pt x="16768" y="14461"/>
                </a:cubicBezTo>
              </a:path>
              <a:path w="2308" h="869">
                <a:moveTo>
                  <a:pt x="17264" y="14188"/>
                </a:moveTo>
                <a:cubicBezTo>
                  <a:pt x="17274" y="14131"/>
                  <a:pt x="17279" y="14109"/>
                  <a:pt x="17264" y="14064"/>
                </a:cubicBezTo>
                <a:cubicBezTo>
                  <a:pt x="17113" y="14093"/>
                  <a:pt x="16897" y="14200"/>
                  <a:pt x="16942" y="14412"/>
                </a:cubicBezTo>
                <a:cubicBezTo>
                  <a:pt x="17001" y="14693"/>
                  <a:pt x="17241" y="14287"/>
                  <a:pt x="17264" y="14238"/>
                </a:cubicBezTo>
                <a:cubicBezTo>
                  <a:pt x="17256" y="14213"/>
                  <a:pt x="17247" y="14188"/>
                  <a:pt x="17239" y="14163"/>
                </a:cubicBezTo>
                <a:cubicBezTo>
                  <a:pt x="17239" y="14251"/>
                  <a:pt x="17270" y="14373"/>
                  <a:pt x="17363" y="14412"/>
                </a:cubicBezTo>
                <a:cubicBezTo>
                  <a:pt x="17505" y="14412"/>
                  <a:pt x="17567" y="14379"/>
                  <a:pt x="17611" y="14238"/>
                </a:cubicBezTo>
              </a:path>
              <a:path w="2308" h="869">
                <a:moveTo>
                  <a:pt x="17587" y="13692"/>
                </a:moveTo>
                <a:cubicBezTo>
                  <a:pt x="17605" y="13882"/>
                  <a:pt x="17592" y="14074"/>
                  <a:pt x="17611" y="14263"/>
                </a:cubicBezTo>
                <a:cubicBezTo>
                  <a:pt x="17624" y="14393"/>
                  <a:pt x="17723" y="14462"/>
                  <a:pt x="17835" y="14362"/>
                </a:cubicBezTo>
                <a:cubicBezTo>
                  <a:pt x="17860" y="14329"/>
                  <a:pt x="17884" y="14296"/>
                  <a:pt x="17909" y="14263"/>
                </a:cubicBezTo>
              </a:path>
              <a:path w="2308" h="869">
                <a:moveTo>
                  <a:pt x="17363" y="14015"/>
                </a:moveTo>
                <a:cubicBezTo>
                  <a:pt x="17538" y="14005"/>
                  <a:pt x="17708" y="13990"/>
                  <a:pt x="17884" y="13990"/>
                </a:cubicBezTo>
                <a:cubicBezTo>
                  <a:pt x="17925" y="13990"/>
                  <a:pt x="17967" y="13990"/>
                  <a:pt x="18008" y="13990"/>
                </a:cubicBezTo>
              </a:path>
              <a:path w="2308" h="869">
                <a:moveTo>
                  <a:pt x="18430" y="14064"/>
                </a:moveTo>
                <a:cubicBezTo>
                  <a:pt x="18406" y="13971"/>
                  <a:pt x="18256" y="13973"/>
                  <a:pt x="18182" y="14015"/>
                </a:cubicBezTo>
                <a:cubicBezTo>
                  <a:pt x="18100" y="14061"/>
                  <a:pt x="17876" y="14433"/>
                  <a:pt x="18132" y="14362"/>
                </a:cubicBezTo>
                <a:cubicBezTo>
                  <a:pt x="18271" y="14269"/>
                  <a:pt x="18315" y="14246"/>
                  <a:pt x="18355" y="14139"/>
                </a:cubicBezTo>
                <a:cubicBezTo>
                  <a:pt x="18355" y="14114"/>
                  <a:pt x="18355" y="14089"/>
                  <a:pt x="18355" y="14064"/>
                </a:cubicBezTo>
                <a:cubicBezTo>
                  <a:pt x="18382" y="14222"/>
                  <a:pt x="18466" y="14198"/>
                  <a:pt x="1860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56280" y="4894200"/>
            <a:ext cx="295560" cy="30312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19422" y="13593"/>
                </a:moveTo>
                <a:cubicBezTo>
                  <a:pt x="19487" y="13860"/>
                  <a:pt x="19456" y="14110"/>
                  <a:pt x="19447" y="14387"/>
                </a:cubicBezTo>
                <a:cubicBezTo>
                  <a:pt x="19641" y="14456"/>
                  <a:pt x="19710" y="14401"/>
                  <a:pt x="19769" y="14213"/>
                </a:cubicBezTo>
              </a:path>
              <a:path w="819" h="844">
                <a:moveTo>
                  <a:pt x="19323" y="14015"/>
                </a:moveTo>
                <a:cubicBezTo>
                  <a:pt x="19483" y="13999"/>
                  <a:pt x="19633" y="13990"/>
                  <a:pt x="19794" y="13990"/>
                </a:cubicBezTo>
                <a:cubicBezTo>
                  <a:pt x="19786" y="14070"/>
                  <a:pt x="19712" y="14283"/>
                  <a:pt x="19819" y="14337"/>
                </a:cubicBezTo>
                <a:cubicBezTo>
                  <a:pt x="20032" y="14446"/>
                  <a:pt x="20272" y="14213"/>
                  <a:pt x="20067" y="14039"/>
                </a:cubicBezTo>
                <a:cubicBezTo>
                  <a:pt x="19961" y="13997"/>
                  <a:pt x="19940" y="13981"/>
                  <a:pt x="19869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4960" y="4840200"/>
            <a:ext cx="955800" cy="330120"/>
          </a:xfrm>
          <a:custGeom>
            <a:avLst/>
            <a:gdLst/>
            <a:ahLst/>
            <a:rect l="l" t="t" r="r" b="b"/>
            <a:pathLst>
              <a:path w="2655" h="919">
                <a:moveTo>
                  <a:pt x="20985" y="14064"/>
                </a:moveTo>
                <a:cubicBezTo>
                  <a:pt x="20992" y="14164"/>
                  <a:pt x="21003" y="14262"/>
                  <a:pt x="21010" y="14362"/>
                </a:cubicBezTo>
                <a:cubicBezTo>
                  <a:pt x="20987" y="14268"/>
                  <a:pt x="20958" y="14142"/>
                  <a:pt x="21010" y="14039"/>
                </a:cubicBezTo>
                <a:cubicBezTo>
                  <a:pt x="21142" y="13775"/>
                  <a:pt x="21285" y="14097"/>
                  <a:pt x="21307" y="14213"/>
                </a:cubicBezTo>
                <a:cubicBezTo>
                  <a:pt x="21307" y="14230"/>
                  <a:pt x="21307" y="14246"/>
                  <a:pt x="21307" y="14263"/>
                </a:cubicBezTo>
                <a:cubicBezTo>
                  <a:pt x="21274" y="14153"/>
                  <a:pt x="21262" y="14052"/>
                  <a:pt x="21357" y="13965"/>
                </a:cubicBezTo>
                <a:cubicBezTo>
                  <a:pt x="21518" y="13818"/>
                  <a:pt x="21666" y="14079"/>
                  <a:pt x="21704" y="14213"/>
                </a:cubicBezTo>
                <a:cubicBezTo>
                  <a:pt x="21704" y="14271"/>
                  <a:pt x="21704" y="14279"/>
                  <a:pt x="21704" y="14312"/>
                </a:cubicBezTo>
              </a:path>
              <a:path w="2655" h="919">
                <a:moveTo>
                  <a:pt x="22175" y="13990"/>
                </a:moveTo>
                <a:cubicBezTo>
                  <a:pt x="22116" y="13905"/>
                  <a:pt x="22013" y="13834"/>
                  <a:pt x="21927" y="13965"/>
                </a:cubicBezTo>
                <a:cubicBezTo>
                  <a:pt x="21818" y="14130"/>
                  <a:pt x="21946" y="14428"/>
                  <a:pt x="22126" y="14213"/>
                </a:cubicBezTo>
                <a:cubicBezTo>
                  <a:pt x="22142" y="14172"/>
                  <a:pt x="22159" y="14130"/>
                  <a:pt x="22175" y="14089"/>
                </a:cubicBezTo>
                <a:cubicBezTo>
                  <a:pt x="22112" y="13916"/>
                  <a:pt x="22173" y="14168"/>
                  <a:pt x="22225" y="14213"/>
                </a:cubicBezTo>
                <a:cubicBezTo>
                  <a:pt x="22378" y="14346"/>
                  <a:pt x="22443" y="14164"/>
                  <a:pt x="22523" y="14064"/>
                </a:cubicBezTo>
              </a:path>
              <a:path w="2655" h="919">
                <a:moveTo>
                  <a:pt x="22423" y="13444"/>
                </a:moveTo>
                <a:cubicBezTo>
                  <a:pt x="22511" y="13684"/>
                  <a:pt x="22292" y="14188"/>
                  <a:pt x="22547" y="14188"/>
                </a:cubicBezTo>
                <a:cubicBezTo>
                  <a:pt x="22555" y="14155"/>
                  <a:pt x="22564" y="14122"/>
                  <a:pt x="22572" y="14089"/>
                </a:cubicBezTo>
              </a:path>
              <a:path w="2655" h="919">
                <a:moveTo>
                  <a:pt x="22721" y="13742"/>
                </a:moveTo>
                <a:cubicBezTo>
                  <a:pt x="22630" y="13833"/>
                  <a:pt x="22605" y="13858"/>
                  <a:pt x="22547" y="13915"/>
                </a:cubicBezTo>
                <a:cubicBezTo>
                  <a:pt x="22697" y="13842"/>
                  <a:pt x="22854" y="13854"/>
                  <a:pt x="22920" y="14039"/>
                </a:cubicBezTo>
                <a:cubicBezTo>
                  <a:pt x="22948" y="14117"/>
                  <a:pt x="22920" y="14271"/>
                  <a:pt x="22920" y="14188"/>
                </a:cubicBezTo>
              </a:path>
              <a:path w="2655" h="919">
                <a:moveTo>
                  <a:pt x="23118" y="13915"/>
                </a:moveTo>
                <a:cubicBezTo>
                  <a:pt x="23131" y="13913"/>
                  <a:pt x="23338" y="13896"/>
                  <a:pt x="23341" y="13891"/>
                </a:cubicBezTo>
                <a:cubicBezTo>
                  <a:pt x="23393" y="13804"/>
                  <a:pt x="23285" y="13735"/>
                  <a:pt x="23242" y="13692"/>
                </a:cubicBezTo>
                <a:cubicBezTo>
                  <a:pt x="23136" y="13825"/>
                  <a:pt x="22960" y="14060"/>
                  <a:pt x="23267" y="14089"/>
                </a:cubicBezTo>
                <a:cubicBezTo>
                  <a:pt x="23423" y="14104"/>
                  <a:pt x="23568" y="14059"/>
                  <a:pt x="23639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65920" y="543888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6991" y="15180"/>
                </a:moveTo>
                <a:cubicBezTo>
                  <a:pt x="16890" y="15040"/>
                  <a:pt x="16753" y="15100"/>
                  <a:pt x="16644" y="15230"/>
                </a:cubicBezTo>
                <a:cubicBezTo>
                  <a:pt x="16434" y="15479"/>
                  <a:pt x="16705" y="15669"/>
                  <a:pt x="16942" y="15503"/>
                </a:cubicBezTo>
                <a:cubicBezTo>
                  <a:pt x="16975" y="15453"/>
                  <a:pt x="17008" y="15404"/>
                  <a:pt x="17041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81760" y="5392800"/>
            <a:ext cx="3744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4436" y="15156"/>
                </a:moveTo>
                <a:cubicBezTo>
                  <a:pt x="14398" y="15108"/>
                  <a:pt x="14339" y="15033"/>
                  <a:pt x="14288" y="14982"/>
                </a:cubicBezTo>
                <a:cubicBezTo>
                  <a:pt x="14128" y="15120"/>
                  <a:pt x="13997" y="15369"/>
                  <a:pt x="14188" y="15577"/>
                </a:cubicBezTo>
                <a:cubicBezTo>
                  <a:pt x="14377" y="15783"/>
                  <a:pt x="14406" y="15423"/>
                  <a:pt x="14412" y="15329"/>
                </a:cubicBezTo>
                <a:cubicBezTo>
                  <a:pt x="14426" y="15429"/>
                  <a:pt x="14417" y="15518"/>
                  <a:pt x="14511" y="15553"/>
                </a:cubicBezTo>
                <a:cubicBezTo>
                  <a:pt x="14720" y="15630"/>
                  <a:pt x="14671" y="15262"/>
                  <a:pt x="14635" y="15280"/>
                </a:cubicBezTo>
                <a:cubicBezTo>
                  <a:pt x="14635" y="15296"/>
                  <a:pt x="14635" y="15313"/>
                  <a:pt x="14635" y="15329"/>
                </a:cubicBezTo>
                <a:cubicBezTo>
                  <a:pt x="14727" y="15572"/>
                  <a:pt x="14700" y="15602"/>
                  <a:pt x="14709" y="15354"/>
                </a:cubicBezTo>
                <a:cubicBezTo>
                  <a:pt x="14731" y="15202"/>
                  <a:pt x="14720" y="15153"/>
                  <a:pt x="14833" y="15131"/>
                </a:cubicBezTo>
                <a:cubicBezTo>
                  <a:pt x="15079" y="15253"/>
                  <a:pt x="15135" y="15301"/>
                  <a:pt x="15156" y="15577"/>
                </a:cubicBezTo>
                <a:cubicBezTo>
                  <a:pt x="15156" y="15569"/>
                  <a:pt x="15156" y="15561"/>
                  <a:pt x="1515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76920" y="5276880"/>
            <a:ext cx="1393920" cy="339840"/>
          </a:xfrm>
          <a:custGeom>
            <a:avLst/>
            <a:gdLst/>
            <a:ahLst/>
            <a:rect l="l" t="t" r="r" b="b"/>
            <a:pathLst>
              <a:path w="3870" h="943">
                <a:moveTo>
                  <a:pt x="16049" y="15429"/>
                </a:moveTo>
                <a:cubicBezTo>
                  <a:pt x="16192" y="15390"/>
                  <a:pt x="16330" y="15355"/>
                  <a:pt x="16470" y="15379"/>
                </a:cubicBezTo>
                <a:cubicBezTo>
                  <a:pt x="16442" y="15307"/>
                  <a:pt x="16345" y="15156"/>
                  <a:pt x="16247" y="15156"/>
                </a:cubicBezTo>
                <a:cubicBezTo>
                  <a:pt x="16043" y="15156"/>
                  <a:pt x="16084" y="15374"/>
                  <a:pt x="16073" y="15503"/>
                </a:cubicBezTo>
                <a:cubicBezTo>
                  <a:pt x="16264" y="15637"/>
                  <a:pt x="16283" y="15601"/>
                  <a:pt x="16520" y="15528"/>
                </a:cubicBezTo>
              </a:path>
              <a:path w="3870" h="943">
                <a:moveTo>
                  <a:pt x="16842" y="14784"/>
                </a:moveTo>
                <a:cubicBezTo>
                  <a:pt x="16968" y="15008"/>
                  <a:pt x="16998" y="15210"/>
                  <a:pt x="17066" y="15453"/>
                </a:cubicBezTo>
                <a:cubicBezTo>
                  <a:pt x="17086" y="15494"/>
                  <a:pt x="17094" y="15521"/>
                  <a:pt x="17090" y="15478"/>
                </a:cubicBezTo>
              </a:path>
              <a:path w="3870" h="943">
                <a:moveTo>
                  <a:pt x="17264" y="15081"/>
                </a:moveTo>
                <a:cubicBezTo>
                  <a:pt x="17264" y="15220"/>
                  <a:pt x="17240" y="15352"/>
                  <a:pt x="17314" y="15478"/>
                </a:cubicBezTo>
                <a:cubicBezTo>
                  <a:pt x="17330" y="15486"/>
                  <a:pt x="17347" y="15495"/>
                  <a:pt x="17363" y="15503"/>
                </a:cubicBezTo>
                <a:cubicBezTo>
                  <a:pt x="17547" y="15368"/>
                  <a:pt x="17564" y="15299"/>
                  <a:pt x="17487" y="15081"/>
                </a:cubicBezTo>
                <a:cubicBezTo>
                  <a:pt x="17495" y="15106"/>
                  <a:pt x="17504" y="15131"/>
                  <a:pt x="17512" y="15156"/>
                </a:cubicBezTo>
                <a:cubicBezTo>
                  <a:pt x="17607" y="15313"/>
                  <a:pt x="17621" y="15436"/>
                  <a:pt x="17810" y="15404"/>
                </a:cubicBezTo>
              </a:path>
              <a:path w="3870" h="943">
                <a:moveTo>
                  <a:pt x="18083" y="15056"/>
                </a:moveTo>
                <a:cubicBezTo>
                  <a:pt x="18070" y="14991"/>
                  <a:pt x="18060" y="14994"/>
                  <a:pt x="18008" y="14957"/>
                </a:cubicBezTo>
                <a:cubicBezTo>
                  <a:pt x="17932" y="15028"/>
                  <a:pt x="17632" y="15327"/>
                  <a:pt x="17859" y="15429"/>
                </a:cubicBezTo>
                <a:cubicBezTo>
                  <a:pt x="18066" y="15429"/>
                  <a:pt x="18139" y="15426"/>
                  <a:pt x="18256" y="15329"/>
                </a:cubicBezTo>
              </a:path>
              <a:path w="3870" h="943">
                <a:moveTo>
                  <a:pt x="18529" y="15056"/>
                </a:moveTo>
                <a:cubicBezTo>
                  <a:pt x="18412" y="14921"/>
                  <a:pt x="18260" y="15025"/>
                  <a:pt x="18182" y="15180"/>
                </a:cubicBezTo>
                <a:cubicBezTo>
                  <a:pt x="18174" y="15230"/>
                  <a:pt x="18165" y="15279"/>
                  <a:pt x="18157" y="15329"/>
                </a:cubicBezTo>
                <a:cubicBezTo>
                  <a:pt x="18383" y="15457"/>
                  <a:pt x="18437" y="15403"/>
                  <a:pt x="18554" y="15180"/>
                </a:cubicBezTo>
                <a:cubicBezTo>
                  <a:pt x="18411" y="15039"/>
                  <a:pt x="18570" y="15301"/>
                  <a:pt x="18678" y="15304"/>
                </a:cubicBezTo>
                <a:cubicBezTo>
                  <a:pt x="18795" y="15276"/>
                  <a:pt x="18834" y="15250"/>
                  <a:pt x="18827" y="15131"/>
                </a:cubicBezTo>
              </a:path>
              <a:path w="3870" h="943">
                <a:moveTo>
                  <a:pt x="18777" y="14709"/>
                </a:moveTo>
                <a:cubicBezTo>
                  <a:pt x="18819" y="14918"/>
                  <a:pt x="18876" y="15083"/>
                  <a:pt x="18951" y="15280"/>
                </a:cubicBezTo>
                <a:cubicBezTo>
                  <a:pt x="18951" y="15288"/>
                  <a:pt x="18951" y="15296"/>
                  <a:pt x="18951" y="15304"/>
                </a:cubicBezTo>
              </a:path>
              <a:path w="3870" h="943">
                <a:moveTo>
                  <a:pt x="18579" y="15056"/>
                </a:moveTo>
                <a:cubicBezTo>
                  <a:pt x="18806" y="15012"/>
                  <a:pt x="19040" y="15037"/>
                  <a:pt x="19273" y="15056"/>
                </a:cubicBezTo>
                <a:cubicBezTo>
                  <a:pt x="19324" y="15060"/>
                  <a:pt x="19323" y="15084"/>
                  <a:pt x="19323" y="15056"/>
                </a:cubicBezTo>
                <a:cubicBezTo>
                  <a:pt x="19264" y="14955"/>
                  <a:pt x="19235" y="14948"/>
                  <a:pt x="19124" y="14957"/>
                </a:cubicBezTo>
                <a:cubicBezTo>
                  <a:pt x="19097" y="15115"/>
                  <a:pt x="19049" y="15296"/>
                  <a:pt x="19273" y="15304"/>
                </a:cubicBezTo>
                <a:cubicBezTo>
                  <a:pt x="19492" y="15280"/>
                  <a:pt x="19563" y="15274"/>
                  <a:pt x="19695" y="15205"/>
                </a:cubicBezTo>
              </a:path>
              <a:path w="3870" h="943">
                <a:moveTo>
                  <a:pt x="19844" y="15032"/>
                </a:moveTo>
                <a:cubicBezTo>
                  <a:pt x="19759" y="14926"/>
                  <a:pt x="19749" y="14881"/>
                  <a:pt x="19596" y="14957"/>
                </a:cubicBezTo>
                <a:cubicBezTo>
                  <a:pt x="19395" y="15057"/>
                  <a:pt x="19413" y="15116"/>
                  <a:pt x="19422" y="15304"/>
                </a:cubicBezTo>
                <a:cubicBezTo>
                  <a:pt x="19661" y="15346"/>
                  <a:pt x="19924" y="15317"/>
                  <a:pt x="19869" y="14982"/>
                </a:cubicBezTo>
                <a:cubicBezTo>
                  <a:pt x="19800" y="14822"/>
                  <a:pt x="19783" y="14777"/>
                  <a:pt x="19720" y="14684"/>
                </a:cubicBezTo>
                <a:cubicBezTo>
                  <a:pt x="19653" y="14652"/>
                  <a:pt x="19808" y="14983"/>
                  <a:pt x="19844" y="15106"/>
                </a:cubicBezTo>
                <a:cubicBezTo>
                  <a:pt x="19880" y="15217"/>
                  <a:pt x="19868" y="15238"/>
                  <a:pt x="19918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2960" y="5276880"/>
            <a:ext cx="866880" cy="43020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20910" y="15106"/>
                </a:moveTo>
                <a:cubicBezTo>
                  <a:pt x="20949" y="15010"/>
                  <a:pt x="20795" y="14903"/>
                  <a:pt x="20687" y="14957"/>
                </a:cubicBezTo>
                <a:cubicBezTo>
                  <a:pt x="20479" y="15061"/>
                  <a:pt x="20550" y="15188"/>
                  <a:pt x="20613" y="15329"/>
                </a:cubicBezTo>
                <a:cubicBezTo>
                  <a:pt x="20800" y="15258"/>
                  <a:pt x="20792" y="15276"/>
                  <a:pt x="20861" y="15081"/>
                </a:cubicBezTo>
                <a:cubicBezTo>
                  <a:pt x="20921" y="15283"/>
                  <a:pt x="21063" y="15453"/>
                  <a:pt x="20985" y="15677"/>
                </a:cubicBezTo>
                <a:cubicBezTo>
                  <a:pt x="20907" y="15901"/>
                  <a:pt x="20521" y="15907"/>
                  <a:pt x="20538" y="15627"/>
                </a:cubicBezTo>
                <a:cubicBezTo>
                  <a:pt x="20563" y="15577"/>
                  <a:pt x="20588" y="15528"/>
                  <a:pt x="20613" y="15478"/>
                </a:cubicBezTo>
              </a:path>
              <a:path w="2407" h="1191">
                <a:moveTo>
                  <a:pt x="21109" y="14982"/>
                </a:moveTo>
                <a:cubicBezTo>
                  <a:pt x="21109" y="15142"/>
                  <a:pt x="21092" y="15193"/>
                  <a:pt x="21183" y="15304"/>
                </a:cubicBezTo>
                <a:cubicBezTo>
                  <a:pt x="21350" y="15263"/>
                  <a:pt x="21388" y="15141"/>
                  <a:pt x="21357" y="14957"/>
                </a:cubicBezTo>
                <a:cubicBezTo>
                  <a:pt x="21334" y="14934"/>
                  <a:pt x="21326" y="14923"/>
                  <a:pt x="21332" y="14957"/>
                </a:cubicBezTo>
                <a:cubicBezTo>
                  <a:pt x="21352" y="15078"/>
                  <a:pt x="21368" y="15180"/>
                  <a:pt x="21456" y="15255"/>
                </a:cubicBezTo>
              </a:path>
              <a:path w="2407" h="1191">
                <a:moveTo>
                  <a:pt x="21630" y="15007"/>
                </a:moveTo>
                <a:cubicBezTo>
                  <a:pt x="21723" y="14983"/>
                  <a:pt x="21838" y="14996"/>
                  <a:pt x="21853" y="14908"/>
                </a:cubicBezTo>
                <a:cubicBezTo>
                  <a:pt x="21721" y="14805"/>
                  <a:pt x="21643" y="14850"/>
                  <a:pt x="21605" y="15032"/>
                </a:cubicBezTo>
                <a:cubicBezTo>
                  <a:pt x="21554" y="15277"/>
                  <a:pt x="21808" y="15225"/>
                  <a:pt x="21952" y="15156"/>
                </a:cubicBezTo>
                <a:cubicBezTo>
                  <a:pt x="22002" y="15123"/>
                  <a:pt x="22051" y="15089"/>
                  <a:pt x="22101" y="15056"/>
                </a:cubicBezTo>
              </a:path>
              <a:path w="2407" h="1191">
                <a:moveTo>
                  <a:pt x="22200" y="14734"/>
                </a:moveTo>
                <a:cubicBezTo>
                  <a:pt x="22111" y="14791"/>
                  <a:pt x="22061" y="14797"/>
                  <a:pt x="22027" y="14883"/>
                </a:cubicBezTo>
                <a:cubicBezTo>
                  <a:pt x="22178" y="14926"/>
                  <a:pt x="22326" y="14917"/>
                  <a:pt x="22473" y="14957"/>
                </a:cubicBezTo>
                <a:cubicBezTo>
                  <a:pt x="22443" y="15048"/>
                  <a:pt x="22283" y="15238"/>
                  <a:pt x="22151" y="15106"/>
                </a:cubicBezTo>
                <a:cubicBezTo>
                  <a:pt x="22151" y="15081"/>
                  <a:pt x="22151" y="15057"/>
                  <a:pt x="22151" y="15032"/>
                </a:cubicBezTo>
              </a:path>
              <a:path w="2407" h="1191">
                <a:moveTo>
                  <a:pt x="22845" y="14660"/>
                </a:moveTo>
                <a:cubicBezTo>
                  <a:pt x="22760" y="14671"/>
                  <a:pt x="22671" y="14659"/>
                  <a:pt x="22647" y="14759"/>
                </a:cubicBezTo>
                <a:cubicBezTo>
                  <a:pt x="22770" y="14803"/>
                  <a:pt x="22939" y="14822"/>
                  <a:pt x="22944" y="14982"/>
                </a:cubicBezTo>
                <a:cubicBezTo>
                  <a:pt x="22950" y="15155"/>
                  <a:pt x="22777" y="15159"/>
                  <a:pt x="22671" y="15081"/>
                </a:cubicBezTo>
                <a:cubicBezTo>
                  <a:pt x="22671" y="15073"/>
                  <a:pt x="22671" y="15064"/>
                  <a:pt x="22671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rs. McGrath manages to make 2 out of 15 baskets she attempts, how many would you predict she would make if she shot 30 tim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3973680"/>
            <a:ext cx="2884320" cy="830160"/>
          </a:xfrm>
          <a:custGeom>
            <a:avLst/>
            <a:gdLst/>
            <a:ahLst/>
            <a:rect l="l" t="t" r="r" b="b"/>
            <a:pathLst>
              <a:path w="8013" h="2308">
                <a:moveTo>
                  <a:pt x="11063" y="13047"/>
                </a:moveTo>
                <a:cubicBezTo>
                  <a:pt x="11486" y="12947"/>
                  <a:pt x="11907" y="12854"/>
                  <a:pt x="12328" y="12750"/>
                </a:cubicBezTo>
              </a:path>
              <a:path w="8013" h="2308">
                <a:moveTo>
                  <a:pt x="11063" y="11832"/>
                </a:moveTo>
                <a:cubicBezTo>
                  <a:pt x="11038" y="11974"/>
                  <a:pt x="11020" y="12110"/>
                  <a:pt x="11013" y="12254"/>
                </a:cubicBezTo>
                <a:cubicBezTo>
                  <a:pt x="11210" y="12221"/>
                  <a:pt x="11335" y="12159"/>
                  <a:pt x="11509" y="12055"/>
                </a:cubicBezTo>
              </a:path>
              <a:path w="8013" h="2308">
                <a:moveTo>
                  <a:pt x="9996" y="13097"/>
                </a:moveTo>
                <a:cubicBezTo>
                  <a:pt x="10135" y="13043"/>
                  <a:pt x="10285" y="12971"/>
                  <a:pt x="10368" y="13072"/>
                </a:cubicBezTo>
              </a:path>
              <a:path w="8013" h="2308">
                <a:moveTo>
                  <a:pt x="10046" y="13345"/>
                </a:moveTo>
                <a:cubicBezTo>
                  <a:pt x="10189" y="13274"/>
                  <a:pt x="10232" y="13253"/>
                  <a:pt x="10319" y="13196"/>
                </a:cubicBezTo>
              </a:path>
              <a:path w="8013" h="2308">
                <a:moveTo>
                  <a:pt x="10319" y="13196"/>
                </a:moveTo>
                <a:lnTo>
                  <a:pt x="10319" y="13196"/>
                </a:lnTo>
              </a:path>
              <a:path w="8013" h="2308">
                <a:moveTo>
                  <a:pt x="8781" y="13146"/>
                </a:moveTo>
                <a:cubicBezTo>
                  <a:pt x="8914" y="13026"/>
                  <a:pt x="9030" y="12993"/>
                  <a:pt x="9203" y="12948"/>
                </a:cubicBezTo>
              </a:path>
              <a:path w="8013" h="2308">
                <a:moveTo>
                  <a:pt x="16718" y="11385"/>
                </a:moveTo>
                <a:cubicBezTo>
                  <a:pt x="16733" y="11465"/>
                  <a:pt x="16785" y="11650"/>
                  <a:pt x="16793" y="11658"/>
                </a:cubicBezTo>
              </a:path>
              <a:path w="8013" h="2308">
                <a:moveTo>
                  <a:pt x="16669" y="11038"/>
                </a:moveTo>
                <a:lnTo>
                  <a:pt x="16669" y="11038"/>
                </a:lnTo>
                <a:lnTo>
                  <a:pt x="16669" y="11038"/>
                </a:lnTo>
              </a:path>
              <a:path w="8013" h="2308">
                <a:moveTo>
                  <a:pt x="16669" y="11038"/>
                </a:moveTo>
                <a:lnTo>
                  <a:pt x="16669" y="110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6160" y="4313160"/>
            <a:ext cx="546120" cy="1036800"/>
          </a:xfrm>
          <a:custGeom>
            <a:avLst/>
            <a:gdLst/>
            <a:ahLst/>
            <a:rect l="l" t="t" r="r" b="b"/>
            <a:pathLst>
              <a:path w="1515" h="2878">
                <a:moveTo>
                  <a:pt x="5655" y="12154"/>
                </a:moveTo>
                <a:cubicBezTo>
                  <a:pt x="5672" y="12130"/>
                  <a:pt x="5813" y="12007"/>
                  <a:pt x="5928" y="11981"/>
                </a:cubicBezTo>
                <a:cubicBezTo>
                  <a:pt x="5961" y="11981"/>
                  <a:pt x="5995" y="11981"/>
                  <a:pt x="6028" y="11981"/>
                </a:cubicBezTo>
                <a:cubicBezTo>
                  <a:pt x="5970" y="12297"/>
                  <a:pt x="5818" y="12536"/>
                  <a:pt x="5631" y="12799"/>
                </a:cubicBezTo>
                <a:cubicBezTo>
                  <a:pt x="5606" y="12832"/>
                  <a:pt x="5581" y="12865"/>
                  <a:pt x="5556" y="12898"/>
                </a:cubicBezTo>
                <a:cubicBezTo>
                  <a:pt x="5677" y="12860"/>
                  <a:pt x="6020" y="12740"/>
                  <a:pt x="6201" y="12700"/>
                </a:cubicBezTo>
                <a:cubicBezTo>
                  <a:pt x="6291" y="12680"/>
                  <a:pt x="6427" y="12659"/>
                  <a:pt x="6474" y="12675"/>
                </a:cubicBezTo>
              </a:path>
              <a:path w="1515" h="2878">
                <a:moveTo>
                  <a:pt x="5407" y="13320"/>
                </a:moveTo>
                <a:cubicBezTo>
                  <a:pt x="5885" y="13214"/>
                  <a:pt x="6363" y="13101"/>
                  <a:pt x="6846" y="13022"/>
                </a:cubicBezTo>
                <a:cubicBezTo>
                  <a:pt x="6854" y="13022"/>
                  <a:pt x="6863" y="13022"/>
                  <a:pt x="6871" y="13022"/>
                </a:cubicBezTo>
              </a:path>
              <a:path w="1515" h="2878">
                <a:moveTo>
                  <a:pt x="5829" y="14039"/>
                </a:moveTo>
                <a:cubicBezTo>
                  <a:pt x="5798" y="14314"/>
                  <a:pt x="5779" y="14581"/>
                  <a:pt x="5779" y="14858"/>
                </a:cubicBezTo>
                <a:cubicBezTo>
                  <a:pt x="5779" y="14841"/>
                  <a:pt x="5779" y="14825"/>
                  <a:pt x="5779" y="14808"/>
                </a:cubicBezTo>
              </a:path>
              <a:path w="1515" h="2878">
                <a:moveTo>
                  <a:pt x="6300" y="14015"/>
                </a:moveTo>
                <a:cubicBezTo>
                  <a:pt x="6282" y="14089"/>
                  <a:pt x="6274" y="14096"/>
                  <a:pt x="6276" y="14139"/>
                </a:cubicBezTo>
                <a:cubicBezTo>
                  <a:pt x="6402" y="14206"/>
                  <a:pt x="6697" y="14205"/>
                  <a:pt x="6747" y="14387"/>
                </a:cubicBezTo>
                <a:cubicBezTo>
                  <a:pt x="6800" y="14581"/>
                  <a:pt x="6531" y="14687"/>
                  <a:pt x="6400" y="14585"/>
                </a:cubicBezTo>
                <a:cubicBezTo>
                  <a:pt x="6375" y="14552"/>
                  <a:pt x="6350" y="14519"/>
                  <a:pt x="6325" y="14486"/>
                </a:cubicBezTo>
              </a:path>
              <a:path w="1515" h="2878">
                <a:moveTo>
                  <a:pt x="6251" y="14064"/>
                </a:moveTo>
                <a:cubicBezTo>
                  <a:pt x="6436" y="13953"/>
                  <a:pt x="6644" y="13892"/>
                  <a:pt x="6846" y="13816"/>
                </a:cubicBezTo>
                <a:cubicBezTo>
                  <a:pt x="6887" y="13796"/>
                  <a:pt x="6893" y="13787"/>
                  <a:pt x="6921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59040" y="4518000"/>
            <a:ext cx="662040" cy="519120"/>
          </a:xfrm>
          <a:custGeom>
            <a:avLst/>
            <a:gdLst/>
            <a:ahLst/>
            <a:rect l="l" t="t" r="r" b="b"/>
            <a:pathLst>
              <a:path w="1836" h="1440">
                <a:moveTo>
                  <a:pt x="7665" y="12973"/>
                </a:moveTo>
                <a:cubicBezTo>
                  <a:pt x="7698" y="13008"/>
                  <a:pt x="8033" y="13422"/>
                  <a:pt x="8037" y="13419"/>
                </a:cubicBezTo>
                <a:cubicBezTo>
                  <a:pt x="8037" y="13386"/>
                  <a:pt x="8037" y="13353"/>
                  <a:pt x="8037" y="13320"/>
                </a:cubicBezTo>
              </a:path>
              <a:path w="1836" h="1440">
                <a:moveTo>
                  <a:pt x="7938" y="12998"/>
                </a:moveTo>
                <a:cubicBezTo>
                  <a:pt x="7869" y="13177"/>
                  <a:pt x="7601" y="13643"/>
                  <a:pt x="7764" y="13543"/>
                </a:cubicBezTo>
                <a:cubicBezTo>
                  <a:pt x="7797" y="13510"/>
                  <a:pt x="7830" y="13477"/>
                  <a:pt x="7863" y="13444"/>
                </a:cubicBezTo>
              </a:path>
              <a:path w="1836" h="1440">
                <a:moveTo>
                  <a:pt x="8781" y="13395"/>
                </a:moveTo>
                <a:cubicBezTo>
                  <a:pt x="8905" y="13387"/>
                  <a:pt x="9005" y="13383"/>
                  <a:pt x="9128" y="13395"/>
                </a:cubicBezTo>
                <a:cubicBezTo>
                  <a:pt x="9051" y="13624"/>
                  <a:pt x="8919" y="13786"/>
                  <a:pt x="8806" y="13990"/>
                </a:cubicBezTo>
                <a:cubicBezTo>
                  <a:pt x="9061" y="13936"/>
                  <a:pt x="9275" y="13825"/>
                  <a:pt x="9500" y="13692"/>
                </a:cubicBezTo>
              </a:path>
              <a:path w="1836" h="1440">
                <a:moveTo>
                  <a:pt x="8483" y="12576"/>
                </a:moveTo>
                <a:cubicBezTo>
                  <a:pt x="8572" y="12565"/>
                  <a:pt x="8782" y="12498"/>
                  <a:pt x="8830" y="12626"/>
                </a:cubicBezTo>
                <a:cubicBezTo>
                  <a:pt x="8880" y="12760"/>
                  <a:pt x="8738" y="12954"/>
                  <a:pt x="8657" y="13022"/>
                </a:cubicBezTo>
                <a:cubicBezTo>
                  <a:pt x="8788" y="12992"/>
                  <a:pt x="8936" y="12939"/>
                  <a:pt x="9054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24200" y="3938760"/>
            <a:ext cx="830160" cy="660240"/>
          </a:xfrm>
          <a:custGeom>
            <a:avLst/>
            <a:gdLst/>
            <a:ahLst/>
            <a:rect l="l" t="t" r="r" b="b"/>
            <a:pathLst>
              <a:path w="2307" h="1836">
                <a:moveTo>
                  <a:pt x="11286" y="11534"/>
                </a:moveTo>
                <a:cubicBezTo>
                  <a:pt x="11214" y="11883"/>
                  <a:pt x="11176" y="12219"/>
                  <a:pt x="11162" y="12576"/>
                </a:cubicBezTo>
              </a:path>
              <a:path w="2307" h="1836">
                <a:moveTo>
                  <a:pt x="10344" y="12328"/>
                </a:moveTo>
                <a:cubicBezTo>
                  <a:pt x="10516" y="12546"/>
                  <a:pt x="10628" y="12684"/>
                  <a:pt x="10939" y="12750"/>
                </a:cubicBezTo>
                <a:cubicBezTo>
                  <a:pt x="11436" y="12856"/>
                  <a:pt x="12173" y="12725"/>
                  <a:pt x="12502" y="12303"/>
                </a:cubicBezTo>
                <a:cubicBezTo>
                  <a:pt x="12880" y="11818"/>
                  <a:pt x="12522" y="11334"/>
                  <a:pt x="12080" y="11088"/>
                </a:cubicBezTo>
                <a:cubicBezTo>
                  <a:pt x="11482" y="10756"/>
                  <a:pt x="10829" y="10939"/>
                  <a:pt x="10517" y="11559"/>
                </a:cubicBezTo>
                <a:cubicBezTo>
                  <a:pt x="10187" y="12214"/>
                  <a:pt x="10442" y="12396"/>
                  <a:pt x="1086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22920" y="3894120"/>
            <a:ext cx="1508040" cy="428760"/>
          </a:xfrm>
          <a:custGeom>
            <a:avLst/>
            <a:gdLst/>
            <a:ahLst/>
            <a:rect l="l" t="t" r="r" b="b"/>
            <a:pathLst>
              <a:path w="4193" h="1191">
                <a:moveTo>
                  <a:pt x="13692" y="11212"/>
                </a:moveTo>
                <a:cubicBezTo>
                  <a:pt x="13489" y="11224"/>
                  <a:pt x="13441" y="11327"/>
                  <a:pt x="13395" y="11534"/>
                </a:cubicBezTo>
                <a:cubicBezTo>
                  <a:pt x="13497" y="11563"/>
                  <a:pt x="14249" y="11661"/>
                  <a:pt x="13940" y="11881"/>
                </a:cubicBezTo>
                <a:cubicBezTo>
                  <a:pt x="13761" y="12008"/>
                  <a:pt x="13597" y="12008"/>
                  <a:pt x="13419" y="11956"/>
                </a:cubicBezTo>
                <a:cubicBezTo>
                  <a:pt x="13672" y="11979"/>
                  <a:pt x="13825" y="11976"/>
                  <a:pt x="14064" y="11906"/>
                </a:cubicBezTo>
              </a:path>
              <a:path w="4193" h="1191">
                <a:moveTo>
                  <a:pt x="13940" y="11112"/>
                </a:moveTo>
                <a:cubicBezTo>
                  <a:pt x="14042" y="11368"/>
                  <a:pt x="14122" y="11631"/>
                  <a:pt x="14238" y="11881"/>
                </a:cubicBezTo>
                <a:cubicBezTo>
                  <a:pt x="14203" y="11673"/>
                  <a:pt x="14179" y="11594"/>
                  <a:pt x="14288" y="11410"/>
                </a:cubicBezTo>
                <a:cubicBezTo>
                  <a:pt x="14482" y="11546"/>
                  <a:pt x="14541" y="11696"/>
                  <a:pt x="14660" y="11906"/>
                </a:cubicBezTo>
                <a:cubicBezTo>
                  <a:pt x="14839" y="11808"/>
                  <a:pt x="14998" y="11718"/>
                  <a:pt x="14982" y="11485"/>
                </a:cubicBezTo>
                <a:cubicBezTo>
                  <a:pt x="14980" y="11451"/>
                  <a:pt x="14922" y="11340"/>
                  <a:pt x="14883" y="11336"/>
                </a:cubicBezTo>
                <a:cubicBezTo>
                  <a:pt x="14866" y="11344"/>
                  <a:pt x="14850" y="11353"/>
                  <a:pt x="14833" y="11361"/>
                </a:cubicBezTo>
                <a:cubicBezTo>
                  <a:pt x="14805" y="11514"/>
                  <a:pt x="14804" y="11881"/>
                  <a:pt x="15106" y="11782"/>
                </a:cubicBezTo>
                <a:cubicBezTo>
                  <a:pt x="15156" y="11741"/>
                  <a:pt x="15205" y="11699"/>
                  <a:pt x="15255" y="11658"/>
                </a:cubicBezTo>
              </a:path>
              <a:path w="4193" h="1191">
                <a:moveTo>
                  <a:pt x="15677" y="11410"/>
                </a:moveTo>
                <a:cubicBezTo>
                  <a:pt x="15700" y="11531"/>
                  <a:pt x="15761" y="12011"/>
                  <a:pt x="16024" y="11807"/>
                </a:cubicBezTo>
                <a:cubicBezTo>
                  <a:pt x="16122" y="11659"/>
                  <a:pt x="16155" y="11611"/>
                  <a:pt x="16148" y="11485"/>
                </a:cubicBezTo>
                <a:cubicBezTo>
                  <a:pt x="16148" y="11460"/>
                  <a:pt x="16148" y="11435"/>
                  <a:pt x="16148" y="11410"/>
                </a:cubicBezTo>
                <a:cubicBezTo>
                  <a:pt x="16178" y="11596"/>
                  <a:pt x="16234" y="11766"/>
                  <a:pt x="16470" y="11708"/>
                </a:cubicBezTo>
                <a:cubicBezTo>
                  <a:pt x="16503" y="11683"/>
                  <a:pt x="16537" y="11658"/>
                  <a:pt x="16570" y="11633"/>
                </a:cubicBezTo>
                <a:cubicBezTo>
                  <a:pt x="16541" y="11466"/>
                  <a:pt x="16197" y="11488"/>
                  <a:pt x="16272" y="11336"/>
                </a:cubicBezTo>
                <a:cubicBezTo>
                  <a:pt x="16297" y="11328"/>
                  <a:pt x="16321" y="11319"/>
                  <a:pt x="16346" y="11311"/>
                </a:cubicBezTo>
              </a:path>
              <a:path w="4193" h="1191">
                <a:moveTo>
                  <a:pt x="16942" y="10914"/>
                </a:moveTo>
                <a:cubicBezTo>
                  <a:pt x="17028" y="11121"/>
                  <a:pt x="17098" y="11508"/>
                  <a:pt x="17264" y="11658"/>
                </a:cubicBezTo>
                <a:cubicBezTo>
                  <a:pt x="17264" y="11642"/>
                  <a:pt x="17264" y="11625"/>
                  <a:pt x="17264" y="11609"/>
                </a:cubicBezTo>
              </a:path>
              <a:path w="4193" h="1191">
                <a:moveTo>
                  <a:pt x="17338" y="10815"/>
                </a:moveTo>
                <a:cubicBezTo>
                  <a:pt x="17404" y="10987"/>
                  <a:pt x="17547" y="11460"/>
                  <a:pt x="17587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96080" y="3660840"/>
            <a:ext cx="1571760" cy="652320"/>
          </a:xfrm>
          <a:custGeom>
            <a:avLst/>
            <a:gdLst/>
            <a:ahLst/>
            <a:rect l="l" t="t" r="r" b="b"/>
            <a:pathLst>
              <a:path w="4367" h="1812">
                <a:moveTo>
                  <a:pt x="18926" y="11237"/>
                </a:moveTo>
                <a:cubicBezTo>
                  <a:pt x="19040" y="11482"/>
                  <a:pt x="19158" y="11713"/>
                  <a:pt x="19199" y="11981"/>
                </a:cubicBezTo>
                <a:cubicBezTo>
                  <a:pt x="18999" y="11767"/>
                  <a:pt x="18803" y="11326"/>
                  <a:pt x="19025" y="11038"/>
                </a:cubicBezTo>
                <a:cubicBezTo>
                  <a:pt x="19091" y="11021"/>
                  <a:pt x="19158" y="11005"/>
                  <a:pt x="19224" y="10988"/>
                </a:cubicBezTo>
                <a:cubicBezTo>
                  <a:pt x="19282" y="11123"/>
                  <a:pt x="19280" y="11706"/>
                  <a:pt x="18926" y="11460"/>
                </a:cubicBezTo>
                <a:cubicBezTo>
                  <a:pt x="18909" y="11410"/>
                  <a:pt x="18893" y="11361"/>
                  <a:pt x="18876" y="11311"/>
                </a:cubicBezTo>
              </a:path>
              <a:path w="4367" h="1812">
                <a:moveTo>
                  <a:pt x="19496" y="11112"/>
                </a:moveTo>
                <a:cubicBezTo>
                  <a:pt x="19637" y="11294"/>
                  <a:pt x="19519" y="11065"/>
                  <a:pt x="19546" y="10964"/>
                </a:cubicBezTo>
                <a:cubicBezTo>
                  <a:pt x="19589" y="10803"/>
                  <a:pt x="19917" y="10730"/>
                  <a:pt x="20042" y="10815"/>
                </a:cubicBezTo>
                <a:cubicBezTo>
                  <a:pt x="20067" y="10832"/>
                  <a:pt x="20018" y="11134"/>
                  <a:pt x="20042" y="11187"/>
                </a:cubicBezTo>
                <a:cubicBezTo>
                  <a:pt x="20246" y="11148"/>
                  <a:pt x="20253" y="11146"/>
                  <a:pt x="20340" y="10964"/>
                </a:cubicBezTo>
                <a:cubicBezTo>
                  <a:pt x="20217" y="10866"/>
                  <a:pt x="20105" y="10796"/>
                  <a:pt x="19993" y="10691"/>
                </a:cubicBezTo>
              </a:path>
              <a:path w="4367" h="1812">
                <a:moveTo>
                  <a:pt x="20315" y="10542"/>
                </a:moveTo>
                <a:cubicBezTo>
                  <a:pt x="20391" y="10690"/>
                  <a:pt x="20471" y="10837"/>
                  <a:pt x="20538" y="10988"/>
                </a:cubicBezTo>
                <a:cubicBezTo>
                  <a:pt x="20561" y="10807"/>
                  <a:pt x="20605" y="10747"/>
                  <a:pt x="20737" y="10641"/>
                </a:cubicBezTo>
                <a:cubicBezTo>
                  <a:pt x="20864" y="10777"/>
                  <a:pt x="20927" y="11092"/>
                  <a:pt x="20588" y="11063"/>
                </a:cubicBezTo>
                <a:cubicBezTo>
                  <a:pt x="20454" y="10982"/>
                  <a:pt x="20416" y="10946"/>
                  <a:pt x="20513" y="10815"/>
                </a:cubicBezTo>
              </a:path>
              <a:path w="4367" h="1812">
                <a:moveTo>
                  <a:pt x="21233" y="10616"/>
                </a:moveTo>
                <a:cubicBezTo>
                  <a:pt x="21150" y="10645"/>
                  <a:pt x="20828" y="10860"/>
                  <a:pt x="21034" y="10988"/>
                </a:cubicBezTo>
                <a:cubicBezTo>
                  <a:pt x="21203" y="11093"/>
                  <a:pt x="21198" y="10867"/>
                  <a:pt x="21208" y="10790"/>
                </a:cubicBezTo>
                <a:cubicBezTo>
                  <a:pt x="21292" y="10832"/>
                  <a:pt x="21435" y="10995"/>
                  <a:pt x="21555" y="10889"/>
                </a:cubicBezTo>
                <a:cubicBezTo>
                  <a:pt x="21580" y="10839"/>
                  <a:pt x="21605" y="10790"/>
                  <a:pt x="21630" y="10740"/>
                </a:cubicBezTo>
              </a:path>
              <a:path w="4367" h="1812">
                <a:moveTo>
                  <a:pt x="21506" y="10344"/>
                </a:moveTo>
                <a:cubicBezTo>
                  <a:pt x="21541" y="10519"/>
                  <a:pt x="21605" y="10689"/>
                  <a:pt x="21630" y="10864"/>
                </a:cubicBezTo>
                <a:cubicBezTo>
                  <a:pt x="21706" y="10632"/>
                  <a:pt x="21698" y="10567"/>
                  <a:pt x="21927" y="10592"/>
                </a:cubicBezTo>
                <a:cubicBezTo>
                  <a:pt x="21943" y="10709"/>
                  <a:pt x="21760" y="11078"/>
                  <a:pt x="21654" y="10815"/>
                </a:cubicBezTo>
                <a:cubicBezTo>
                  <a:pt x="21654" y="10741"/>
                  <a:pt x="21654" y="10666"/>
                  <a:pt x="21654" y="10592"/>
                </a:cubicBezTo>
              </a:path>
              <a:path w="4367" h="1812">
                <a:moveTo>
                  <a:pt x="22027" y="10170"/>
                </a:moveTo>
                <a:cubicBezTo>
                  <a:pt x="22068" y="10314"/>
                  <a:pt x="22163" y="10592"/>
                  <a:pt x="22299" y="10691"/>
                </a:cubicBezTo>
                <a:cubicBezTo>
                  <a:pt x="22450" y="10801"/>
                  <a:pt x="22502" y="10578"/>
                  <a:pt x="22547" y="10492"/>
                </a:cubicBezTo>
                <a:cubicBezTo>
                  <a:pt x="22547" y="10476"/>
                  <a:pt x="22547" y="10459"/>
                  <a:pt x="22547" y="10443"/>
                </a:cubicBezTo>
                <a:cubicBezTo>
                  <a:pt x="22547" y="10547"/>
                  <a:pt x="22585" y="10796"/>
                  <a:pt x="22746" y="10616"/>
                </a:cubicBezTo>
                <a:cubicBezTo>
                  <a:pt x="22807" y="10548"/>
                  <a:pt x="22803" y="10425"/>
                  <a:pt x="22820" y="10344"/>
                </a:cubicBezTo>
                <a:cubicBezTo>
                  <a:pt x="22994" y="10597"/>
                  <a:pt x="23112" y="10916"/>
                  <a:pt x="23217" y="11212"/>
                </a:cubicBezTo>
                <a:cubicBezTo>
                  <a:pt x="23236" y="11286"/>
                  <a:pt x="23270" y="11319"/>
                  <a:pt x="23217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10320" y="4205160"/>
            <a:ext cx="98640" cy="907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20861" y="11931"/>
                </a:moveTo>
                <a:cubicBezTo>
                  <a:pt x="20936" y="11842"/>
                  <a:pt x="21108" y="11708"/>
                  <a:pt x="21109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6040" y="4749840"/>
            <a:ext cx="509760" cy="28728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0988" y="13320"/>
                </a:moveTo>
                <a:cubicBezTo>
                  <a:pt x="11150" y="13260"/>
                  <a:pt x="11223" y="13212"/>
                  <a:pt x="11385" y="13271"/>
                </a:cubicBezTo>
                <a:cubicBezTo>
                  <a:pt x="11323" y="13417"/>
                  <a:pt x="11262" y="13543"/>
                  <a:pt x="11112" y="13618"/>
                </a:cubicBezTo>
                <a:cubicBezTo>
                  <a:pt x="11356" y="13543"/>
                  <a:pt x="11405" y="13572"/>
                  <a:pt x="11534" y="13767"/>
                </a:cubicBezTo>
                <a:cubicBezTo>
                  <a:pt x="11499" y="13807"/>
                  <a:pt x="10987" y="14231"/>
                  <a:pt x="10988" y="13915"/>
                </a:cubicBezTo>
                <a:cubicBezTo>
                  <a:pt x="11021" y="13882"/>
                  <a:pt x="11055" y="13849"/>
                  <a:pt x="11088" y="13816"/>
                </a:cubicBezTo>
              </a:path>
              <a:path w="1415" h="795">
                <a:moveTo>
                  <a:pt x="11981" y="13320"/>
                </a:moveTo>
                <a:cubicBezTo>
                  <a:pt x="11890" y="13547"/>
                  <a:pt x="11856" y="13607"/>
                  <a:pt x="11881" y="13767"/>
                </a:cubicBezTo>
                <a:cubicBezTo>
                  <a:pt x="12101" y="13858"/>
                  <a:pt x="12487" y="13862"/>
                  <a:pt x="12402" y="13469"/>
                </a:cubicBezTo>
                <a:cubicBezTo>
                  <a:pt x="12354" y="13247"/>
                  <a:pt x="12072" y="13240"/>
                  <a:pt x="1190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7960" y="4384800"/>
            <a:ext cx="1027080" cy="357120"/>
          </a:xfrm>
          <a:custGeom>
            <a:avLst/>
            <a:gdLst/>
            <a:ahLst/>
            <a:rect l="l" t="t" r="r" b="b"/>
            <a:pathLst>
              <a:path w="2853" h="993">
                <a:moveTo>
                  <a:pt x="14436" y="12700"/>
                </a:moveTo>
                <a:cubicBezTo>
                  <a:pt x="14434" y="12702"/>
                  <a:pt x="14557" y="13017"/>
                  <a:pt x="14585" y="13146"/>
                </a:cubicBezTo>
                <a:cubicBezTo>
                  <a:pt x="14585" y="13154"/>
                  <a:pt x="14585" y="13163"/>
                  <a:pt x="14585" y="13171"/>
                </a:cubicBezTo>
                <a:cubicBezTo>
                  <a:pt x="14532" y="13055"/>
                  <a:pt x="14395" y="12653"/>
                  <a:pt x="14610" y="12576"/>
                </a:cubicBezTo>
                <a:cubicBezTo>
                  <a:pt x="14830" y="12497"/>
                  <a:pt x="14924" y="12849"/>
                  <a:pt x="14982" y="12973"/>
                </a:cubicBezTo>
                <a:cubicBezTo>
                  <a:pt x="14982" y="13029"/>
                  <a:pt x="14977" y="13040"/>
                  <a:pt x="14932" y="12973"/>
                </a:cubicBezTo>
                <a:cubicBezTo>
                  <a:pt x="14908" y="12853"/>
                  <a:pt x="14797" y="12278"/>
                  <a:pt x="15131" y="12477"/>
                </a:cubicBezTo>
                <a:cubicBezTo>
                  <a:pt x="15339" y="12601"/>
                  <a:pt x="15391" y="12791"/>
                  <a:pt x="15453" y="12998"/>
                </a:cubicBezTo>
              </a:path>
              <a:path w="2853" h="993">
                <a:moveTo>
                  <a:pt x="15925" y="12526"/>
                </a:moveTo>
                <a:cubicBezTo>
                  <a:pt x="15892" y="12462"/>
                  <a:pt x="15872" y="12433"/>
                  <a:pt x="15825" y="12402"/>
                </a:cubicBezTo>
                <a:cubicBezTo>
                  <a:pt x="15722" y="12466"/>
                  <a:pt x="15243" y="12876"/>
                  <a:pt x="15627" y="12948"/>
                </a:cubicBezTo>
                <a:cubicBezTo>
                  <a:pt x="15871" y="12994"/>
                  <a:pt x="16015" y="12761"/>
                  <a:pt x="15974" y="12576"/>
                </a:cubicBezTo>
                <a:cubicBezTo>
                  <a:pt x="16052" y="12811"/>
                  <a:pt x="16083" y="12886"/>
                  <a:pt x="16321" y="12898"/>
                </a:cubicBezTo>
              </a:path>
              <a:path w="2853" h="993">
                <a:moveTo>
                  <a:pt x="16272" y="12179"/>
                </a:moveTo>
                <a:cubicBezTo>
                  <a:pt x="16369" y="12417"/>
                  <a:pt x="16429" y="13149"/>
                  <a:pt x="16495" y="12626"/>
                </a:cubicBezTo>
              </a:path>
              <a:path w="2853" h="993">
                <a:moveTo>
                  <a:pt x="16594" y="12303"/>
                </a:moveTo>
                <a:cubicBezTo>
                  <a:pt x="16544" y="12436"/>
                  <a:pt x="16506" y="12537"/>
                  <a:pt x="16421" y="12650"/>
                </a:cubicBezTo>
                <a:cubicBezTo>
                  <a:pt x="16466" y="12377"/>
                  <a:pt x="16637" y="12588"/>
                  <a:pt x="16768" y="12725"/>
                </a:cubicBezTo>
                <a:cubicBezTo>
                  <a:pt x="16844" y="12821"/>
                  <a:pt x="16877" y="12898"/>
                  <a:pt x="16867" y="12799"/>
                </a:cubicBezTo>
              </a:path>
              <a:path w="2853" h="993">
                <a:moveTo>
                  <a:pt x="16867" y="12650"/>
                </a:moveTo>
                <a:cubicBezTo>
                  <a:pt x="16974" y="12590"/>
                  <a:pt x="17067" y="12544"/>
                  <a:pt x="17190" y="12526"/>
                </a:cubicBezTo>
                <a:cubicBezTo>
                  <a:pt x="17133" y="12414"/>
                  <a:pt x="17030" y="12272"/>
                  <a:pt x="16966" y="12526"/>
                </a:cubicBezTo>
                <a:cubicBezTo>
                  <a:pt x="16887" y="12840"/>
                  <a:pt x="17060" y="12810"/>
                  <a:pt x="17264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72160" y="4348080"/>
            <a:ext cx="214560" cy="243000"/>
          </a:xfrm>
          <a:custGeom>
            <a:avLst/>
            <a:gdLst/>
            <a:ahLst/>
            <a:rect l="l" t="t" r="r" b="b"/>
            <a:pathLst>
              <a:path w="597" h="671">
                <a:moveTo>
                  <a:pt x="18306" y="12129"/>
                </a:moveTo>
                <a:cubicBezTo>
                  <a:pt x="18313" y="12274"/>
                  <a:pt x="18296" y="12358"/>
                  <a:pt x="18256" y="12502"/>
                </a:cubicBezTo>
                <a:cubicBezTo>
                  <a:pt x="18441" y="12451"/>
                  <a:pt x="18596" y="12408"/>
                  <a:pt x="18802" y="12402"/>
                </a:cubicBezTo>
                <a:cubicBezTo>
                  <a:pt x="18847" y="12402"/>
                  <a:pt x="18867" y="12406"/>
                  <a:pt x="18827" y="12378"/>
                </a:cubicBezTo>
              </a:path>
              <a:path w="597" h="671">
                <a:moveTo>
                  <a:pt x="18628" y="12080"/>
                </a:moveTo>
                <a:cubicBezTo>
                  <a:pt x="18671" y="12219"/>
                  <a:pt x="18755" y="12843"/>
                  <a:pt x="18852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9840" y="4081320"/>
            <a:ext cx="1260360" cy="41148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19695" y="11782"/>
                </a:moveTo>
                <a:cubicBezTo>
                  <a:pt x="19764" y="12014"/>
                  <a:pt x="19833" y="12243"/>
                  <a:pt x="19893" y="12477"/>
                </a:cubicBezTo>
                <a:cubicBezTo>
                  <a:pt x="19893" y="12339"/>
                  <a:pt x="19837" y="12050"/>
                  <a:pt x="20017" y="12005"/>
                </a:cubicBezTo>
                <a:cubicBezTo>
                  <a:pt x="20316" y="11930"/>
                  <a:pt x="20381" y="12397"/>
                  <a:pt x="20067" y="12477"/>
                </a:cubicBezTo>
                <a:cubicBezTo>
                  <a:pt x="19717" y="12566"/>
                  <a:pt x="19797" y="12371"/>
                  <a:pt x="19869" y="12204"/>
                </a:cubicBezTo>
              </a:path>
              <a:path w="3498" h="1142">
                <a:moveTo>
                  <a:pt x="20613" y="11906"/>
                </a:moveTo>
                <a:cubicBezTo>
                  <a:pt x="20491" y="11949"/>
                  <a:pt x="20188" y="12208"/>
                  <a:pt x="20365" y="12378"/>
                </a:cubicBezTo>
                <a:cubicBezTo>
                  <a:pt x="20538" y="12544"/>
                  <a:pt x="20602" y="12120"/>
                  <a:pt x="20613" y="12080"/>
                </a:cubicBezTo>
                <a:cubicBezTo>
                  <a:pt x="20605" y="12055"/>
                  <a:pt x="20596" y="12030"/>
                  <a:pt x="20588" y="12005"/>
                </a:cubicBezTo>
                <a:cubicBezTo>
                  <a:pt x="20632" y="12303"/>
                  <a:pt x="20688" y="12319"/>
                  <a:pt x="20935" y="12179"/>
                </a:cubicBezTo>
              </a:path>
              <a:path w="3498" h="1142">
                <a:moveTo>
                  <a:pt x="20861" y="11832"/>
                </a:moveTo>
                <a:cubicBezTo>
                  <a:pt x="20919" y="11929"/>
                  <a:pt x="21100" y="11974"/>
                  <a:pt x="21208" y="12030"/>
                </a:cubicBezTo>
                <a:cubicBezTo>
                  <a:pt x="21158" y="12092"/>
                  <a:pt x="20754" y="12398"/>
                  <a:pt x="20786" y="12080"/>
                </a:cubicBezTo>
                <a:cubicBezTo>
                  <a:pt x="20819" y="12022"/>
                  <a:pt x="20853" y="11964"/>
                  <a:pt x="20886" y="11906"/>
                </a:cubicBezTo>
              </a:path>
              <a:path w="3498" h="1142">
                <a:moveTo>
                  <a:pt x="21208" y="11385"/>
                </a:moveTo>
                <a:cubicBezTo>
                  <a:pt x="21298" y="11657"/>
                  <a:pt x="21239" y="12391"/>
                  <a:pt x="21456" y="12204"/>
                </a:cubicBezTo>
                <a:cubicBezTo>
                  <a:pt x="21464" y="12163"/>
                  <a:pt x="21473" y="12121"/>
                  <a:pt x="21481" y="12080"/>
                </a:cubicBezTo>
              </a:path>
              <a:path w="3498" h="1142">
                <a:moveTo>
                  <a:pt x="21580" y="11485"/>
                </a:moveTo>
                <a:cubicBezTo>
                  <a:pt x="21522" y="11649"/>
                  <a:pt x="21472" y="11767"/>
                  <a:pt x="21307" y="11832"/>
                </a:cubicBezTo>
                <a:cubicBezTo>
                  <a:pt x="21465" y="11737"/>
                  <a:pt x="21578" y="11820"/>
                  <a:pt x="21704" y="11956"/>
                </a:cubicBezTo>
                <a:cubicBezTo>
                  <a:pt x="21729" y="12005"/>
                  <a:pt x="21738" y="12022"/>
                  <a:pt x="21754" y="12055"/>
                </a:cubicBezTo>
              </a:path>
              <a:path w="3498" h="1142">
                <a:moveTo>
                  <a:pt x="21878" y="11857"/>
                </a:moveTo>
                <a:cubicBezTo>
                  <a:pt x="21937" y="11838"/>
                  <a:pt x="22112" y="11821"/>
                  <a:pt x="22151" y="11782"/>
                </a:cubicBezTo>
                <a:cubicBezTo>
                  <a:pt x="22151" y="11774"/>
                  <a:pt x="22151" y="11765"/>
                  <a:pt x="22151" y="11757"/>
                </a:cubicBezTo>
                <a:cubicBezTo>
                  <a:pt x="22011" y="11705"/>
                  <a:pt x="21743" y="11733"/>
                  <a:pt x="21927" y="11956"/>
                </a:cubicBezTo>
                <a:cubicBezTo>
                  <a:pt x="22146" y="12221"/>
                  <a:pt x="22269" y="11952"/>
                  <a:pt x="22399" y="11807"/>
                </a:cubicBezTo>
              </a:path>
              <a:path w="3498" h="1142">
                <a:moveTo>
                  <a:pt x="22399" y="11336"/>
                </a:moveTo>
                <a:cubicBezTo>
                  <a:pt x="22424" y="11467"/>
                  <a:pt x="22495" y="11852"/>
                  <a:pt x="22523" y="11906"/>
                </a:cubicBezTo>
              </a:path>
              <a:path w="3498" h="1142">
                <a:moveTo>
                  <a:pt x="22275" y="11584"/>
                </a:moveTo>
                <a:cubicBezTo>
                  <a:pt x="22490" y="11516"/>
                  <a:pt x="22703" y="11444"/>
                  <a:pt x="22920" y="11385"/>
                </a:cubicBezTo>
                <a:cubicBezTo>
                  <a:pt x="22880" y="11400"/>
                  <a:pt x="22664" y="11479"/>
                  <a:pt x="22796" y="11509"/>
                </a:cubicBezTo>
                <a:cubicBezTo>
                  <a:pt x="22976" y="11549"/>
                  <a:pt x="23059" y="11560"/>
                  <a:pt x="23192" y="11683"/>
                </a:cubicBezTo>
                <a:cubicBezTo>
                  <a:pt x="22967" y="11849"/>
                  <a:pt x="22979" y="11816"/>
                  <a:pt x="2269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aking a prediction based on a known probability, we find an equivalent fraction with the denominator being the new “possible outcom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71600" y="3962520"/>
                <a:ext cx="12193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1538280" y="14065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4065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633680" y="4786200"/>
            <a:ext cx="322200" cy="312840"/>
          </a:xfrm>
          <a:custGeom>
            <a:avLst/>
            <a:gdLst/>
            <a:ahLst/>
            <a:rect l="l" t="t" r="r" b="b"/>
            <a:pathLst>
              <a:path w="894" h="869">
                <a:moveTo>
                  <a:pt x="4539" y="13494"/>
                </a:moveTo>
                <a:cubicBezTo>
                  <a:pt x="4655" y="13593"/>
                  <a:pt x="4660" y="13843"/>
                  <a:pt x="4812" y="13841"/>
                </a:cubicBezTo>
                <a:cubicBezTo>
                  <a:pt x="4812" y="13824"/>
                  <a:pt x="4812" y="13808"/>
                  <a:pt x="4812" y="13791"/>
                </a:cubicBezTo>
              </a:path>
              <a:path w="894" h="869">
                <a:moveTo>
                  <a:pt x="4787" y="13295"/>
                </a:moveTo>
                <a:cubicBezTo>
                  <a:pt x="4759" y="13368"/>
                  <a:pt x="4512" y="13985"/>
                  <a:pt x="4564" y="14015"/>
                </a:cubicBezTo>
                <a:cubicBezTo>
                  <a:pt x="4581" y="13990"/>
                  <a:pt x="4597" y="13965"/>
                  <a:pt x="4614" y="13940"/>
                </a:cubicBezTo>
              </a:path>
              <a:path w="894" h="869">
                <a:moveTo>
                  <a:pt x="4961" y="13667"/>
                </a:moveTo>
                <a:cubicBezTo>
                  <a:pt x="5045" y="13628"/>
                  <a:pt x="5247" y="13470"/>
                  <a:pt x="5234" y="13643"/>
                </a:cubicBezTo>
                <a:cubicBezTo>
                  <a:pt x="5211" y="13776"/>
                  <a:pt x="5214" y="13815"/>
                  <a:pt x="5135" y="13866"/>
                </a:cubicBezTo>
                <a:cubicBezTo>
                  <a:pt x="5135" y="13874"/>
                  <a:pt x="5135" y="13883"/>
                  <a:pt x="5135" y="13891"/>
                </a:cubicBezTo>
                <a:cubicBezTo>
                  <a:pt x="5237" y="13861"/>
                  <a:pt x="5467" y="13730"/>
                  <a:pt x="5432" y="13965"/>
                </a:cubicBezTo>
                <a:cubicBezTo>
                  <a:pt x="5406" y="14141"/>
                  <a:pt x="5259" y="14144"/>
                  <a:pt x="5135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52760" y="3803760"/>
            <a:ext cx="293400" cy="268200"/>
          </a:xfrm>
          <a:custGeom>
            <a:avLst/>
            <a:gdLst/>
            <a:ahLst/>
            <a:rect l="l" t="t" r="r" b="b"/>
            <a:pathLst>
              <a:path w="819" h="745">
                <a:moveTo>
                  <a:pt x="4589" y="11038"/>
                </a:moveTo>
                <a:cubicBezTo>
                  <a:pt x="4720" y="11090"/>
                  <a:pt x="4785" y="11242"/>
                  <a:pt x="4911" y="11311"/>
                </a:cubicBezTo>
                <a:cubicBezTo>
                  <a:pt x="4911" y="11303"/>
                  <a:pt x="4911" y="11294"/>
                  <a:pt x="4911" y="11286"/>
                </a:cubicBezTo>
              </a:path>
              <a:path w="819" h="745">
                <a:moveTo>
                  <a:pt x="4961" y="10666"/>
                </a:moveTo>
                <a:cubicBezTo>
                  <a:pt x="5042" y="10625"/>
                  <a:pt x="5319" y="10458"/>
                  <a:pt x="5259" y="10691"/>
                </a:cubicBezTo>
                <a:cubicBezTo>
                  <a:pt x="5199" y="10811"/>
                  <a:pt x="5197" y="10838"/>
                  <a:pt x="5135" y="10889"/>
                </a:cubicBezTo>
                <a:cubicBezTo>
                  <a:pt x="5160" y="10762"/>
                  <a:pt x="5341" y="10743"/>
                  <a:pt x="5407" y="10864"/>
                </a:cubicBezTo>
                <a:cubicBezTo>
                  <a:pt x="5494" y="11023"/>
                  <a:pt x="5296" y="11089"/>
                  <a:pt x="5209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8920" y="3759120"/>
            <a:ext cx="785880" cy="598680"/>
          </a:xfrm>
          <a:custGeom>
            <a:avLst/>
            <a:gdLst/>
            <a:ahLst/>
            <a:rect l="l" t="t" r="r" b="b"/>
            <a:pathLst>
              <a:path w="2184" h="1663">
                <a:moveTo>
                  <a:pt x="7293" y="10988"/>
                </a:moveTo>
                <a:cubicBezTo>
                  <a:pt x="7338" y="11241"/>
                  <a:pt x="7318" y="11479"/>
                  <a:pt x="7342" y="11733"/>
                </a:cubicBezTo>
                <a:cubicBezTo>
                  <a:pt x="7375" y="11830"/>
                  <a:pt x="7387" y="11831"/>
                  <a:pt x="7392" y="11658"/>
                </a:cubicBezTo>
              </a:path>
              <a:path w="2184" h="1663">
                <a:moveTo>
                  <a:pt x="7541" y="10964"/>
                </a:moveTo>
                <a:cubicBezTo>
                  <a:pt x="7693" y="10880"/>
                  <a:pt x="7851" y="10909"/>
                  <a:pt x="7813" y="11137"/>
                </a:cubicBezTo>
                <a:cubicBezTo>
                  <a:pt x="7786" y="11300"/>
                  <a:pt x="7665" y="11424"/>
                  <a:pt x="7665" y="11584"/>
                </a:cubicBezTo>
                <a:cubicBezTo>
                  <a:pt x="7804" y="11539"/>
                  <a:pt x="7929" y="11496"/>
                  <a:pt x="8062" y="11435"/>
                </a:cubicBezTo>
              </a:path>
              <a:path w="2184" h="1663">
                <a:moveTo>
                  <a:pt x="6995" y="11931"/>
                </a:moveTo>
                <a:cubicBezTo>
                  <a:pt x="7177" y="12203"/>
                  <a:pt x="7499" y="12091"/>
                  <a:pt x="7789" y="12030"/>
                </a:cubicBezTo>
                <a:cubicBezTo>
                  <a:pt x="8247" y="11934"/>
                  <a:pt x="8982" y="11788"/>
                  <a:pt x="8930" y="11162"/>
                </a:cubicBezTo>
                <a:cubicBezTo>
                  <a:pt x="8885" y="10626"/>
                  <a:pt x="8333" y="10403"/>
                  <a:pt x="7863" y="10443"/>
                </a:cubicBezTo>
                <a:cubicBezTo>
                  <a:pt x="7438" y="10479"/>
                  <a:pt x="6647" y="10781"/>
                  <a:pt x="6747" y="11336"/>
                </a:cubicBezTo>
                <a:cubicBezTo>
                  <a:pt x="6865" y="11990"/>
                  <a:pt x="7616" y="12124"/>
                  <a:pt x="8136" y="12005"/>
                </a:cubicBezTo>
                <a:cubicBezTo>
                  <a:pt x="8323" y="11962"/>
                  <a:pt x="8476" y="11854"/>
                  <a:pt x="860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7040" y="3867120"/>
            <a:ext cx="44280" cy="2761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4837" y="10740"/>
                </a:moveTo>
                <a:cubicBezTo>
                  <a:pt x="4784" y="10995"/>
                  <a:pt x="4764" y="11254"/>
                  <a:pt x="4713" y="11509"/>
                </a:cubicBezTo>
                <a:cubicBezTo>
                  <a:pt x="4713" y="11501"/>
                  <a:pt x="4713" y="11493"/>
                  <a:pt x="4713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 Predi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81760" y="2820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114" y="7838"/>
                </a:moveTo>
                <a:cubicBezTo>
                  <a:pt x="14122" y="7838"/>
                  <a:pt x="14131" y="7838"/>
                  <a:pt x="14139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90800" y="2840040"/>
            <a:ext cx="1884240" cy="544680"/>
          </a:xfrm>
          <a:custGeom>
            <a:avLst/>
            <a:gdLst/>
            <a:ahLst/>
            <a:rect l="l" t="t" r="r" b="b"/>
            <a:pathLst>
              <a:path w="5235" h="1514">
                <a:moveTo>
                  <a:pt x="5904" y="8483"/>
                </a:moveTo>
                <a:cubicBezTo>
                  <a:pt x="5935" y="8551"/>
                  <a:pt x="5963" y="8622"/>
                  <a:pt x="6003" y="8682"/>
                </a:cubicBezTo>
                <a:cubicBezTo>
                  <a:pt x="5991" y="8650"/>
                  <a:pt x="5887" y="8240"/>
                  <a:pt x="5755" y="8384"/>
                </a:cubicBezTo>
                <a:cubicBezTo>
                  <a:pt x="5484" y="8678"/>
                  <a:pt x="5565" y="9012"/>
                  <a:pt x="5606" y="9351"/>
                </a:cubicBezTo>
                <a:cubicBezTo>
                  <a:pt x="6005" y="9364"/>
                  <a:pt x="6043" y="9267"/>
                  <a:pt x="6375" y="9004"/>
                </a:cubicBezTo>
              </a:path>
              <a:path w="5235" h="1514">
                <a:moveTo>
                  <a:pt x="6400" y="8558"/>
                </a:moveTo>
                <a:cubicBezTo>
                  <a:pt x="6293" y="8865"/>
                  <a:pt x="6244" y="8907"/>
                  <a:pt x="6350" y="9203"/>
                </a:cubicBezTo>
                <a:cubicBezTo>
                  <a:pt x="6628" y="9099"/>
                  <a:pt x="6803" y="8914"/>
                  <a:pt x="6573" y="8607"/>
                </a:cubicBezTo>
                <a:cubicBezTo>
                  <a:pt x="6476" y="8549"/>
                  <a:pt x="6467" y="8525"/>
                  <a:pt x="6400" y="8533"/>
                </a:cubicBezTo>
              </a:path>
              <a:path w="5235" h="1514">
                <a:moveTo>
                  <a:pt x="6871" y="8806"/>
                </a:moveTo>
                <a:cubicBezTo>
                  <a:pt x="6912" y="8887"/>
                  <a:pt x="6928" y="8899"/>
                  <a:pt x="6921" y="8954"/>
                </a:cubicBezTo>
                <a:cubicBezTo>
                  <a:pt x="6898" y="8839"/>
                  <a:pt x="6799" y="8550"/>
                  <a:pt x="6945" y="8458"/>
                </a:cubicBezTo>
                <a:cubicBezTo>
                  <a:pt x="7148" y="8330"/>
                  <a:pt x="7243" y="8732"/>
                  <a:pt x="7243" y="8830"/>
                </a:cubicBezTo>
                <a:cubicBezTo>
                  <a:pt x="7196" y="8595"/>
                  <a:pt x="7206" y="8573"/>
                  <a:pt x="7317" y="8359"/>
                </a:cubicBezTo>
                <a:cubicBezTo>
                  <a:pt x="7569" y="8409"/>
                  <a:pt x="7692" y="8572"/>
                  <a:pt x="7714" y="8855"/>
                </a:cubicBezTo>
                <a:cubicBezTo>
                  <a:pt x="7706" y="8905"/>
                  <a:pt x="7697" y="8954"/>
                  <a:pt x="7689" y="9004"/>
                </a:cubicBezTo>
              </a:path>
              <a:path w="5235" h="1514">
                <a:moveTo>
                  <a:pt x="7938" y="8706"/>
                </a:moveTo>
                <a:cubicBezTo>
                  <a:pt x="7982" y="8928"/>
                  <a:pt x="8037" y="9151"/>
                  <a:pt x="8062" y="9376"/>
                </a:cubicBezTo>
                <a:cubicBezTo>
                  <a:pt x="7898" y="9119"/>
                  <a:pt x="7693" y="8737"/>
                  <a:pt x="7913" y="8434"/>
                </a:cubicBezTo>
                <a:cubicBezTo>
                  <a:pt x="7979" y="8401"/>
                  <a:pt x="8045" y="8367"/>
                  <a:pt x="8111" y="8334"/>
                </a:cubicBezTo>
                <a:cubicBezTo>
                  <a:pt x="8271" y="8450"/>
                  <a:pt x="8713" y="8850"/>
                  <a:pt x="8210" y="8954"/>
                </a:cubicBezTo>
                <a:cubicBezTo>
                  <a:pt x="8009" y="8932"/>
                  <a:pt x="7951" y="8938"/>
                  <a:pt x="7863" y="8830"/>
                </a:cubicBezTo>
              </a:path>
              <a:path w="5235" h="1514">
                <a:moveTo>
                  <a:pt x="8458" y="8111"/>
                </a:moveTo>
                <a:cubicBezTo>
                  <a:pt x="8554" y="8337"/>
                  <a:pt x="8605" y="8718"/>
                  <a:pt x="8756" y="8905"/>
                </a:cubicBezTo>
                <a:cubicBezTo>
                  <a:pt x="8756" y="8888"/>
                  <a:pt x="8756" y="8872"/>
                  <a:pt x="8756" y="8855"/>
                </a:cubicBezTo>
              </a:path>
              <a:path w="5235" h="1514">
                <a:moveTo>
                  <a:pt x="8880" y="8483"/>
                </a:moveTo>
                <a:cubicBezTo>
                  <a:pt x="9008" y="8483"/>
                  <a:pt x="9129" y="8490"/>
                  <a:pt x="9252" y="8508"/>
                </a:cubicBezTo>
                <a:cubicBezTo>
                  <a:pt x="9260" y="8508"/>
                  <a:pt x="9269" y="8508"/>
                  <a:pt x="9277" y="8508"/>
                </a:cubicBezTo>
                <a:cubicBezTo>
                  <a:pt x="9238" y="8416"/>
                  <a:pt x="9070" y="8167"/>
                  <a:pt x="8930" y="8310"/>
                </a:cubicBezTo>
                <a:cubicBezTo>
                  <a:pt x="8674" y="8571"/>
                  <a:pt x="9048" y="8910"/>
                  <a:pt x="9327" y="8781"/>
                </a:cubicBezTo>
                <a:cubicBezTo>
                  <a:pt x="9393" y="8723"/>
                  <a:pt x="9459" y="8665"/>
                  <a:pt x="9525" y="8607"/>
                </a:cubicBezTo>
              </a:path>
              <a:path w="5235" h="1514">
                <a:moveTo>
                  <a:pt x="9525" y="7888"/>
                </a:moveTo>
                <a:cubicBezTo>
                  <a:pt x="9576" y="8167"/>
                  <a:pt x="9700" y="8435"/>
                  <a:pt x="9798" y="8706"/>
                </a:cubicBezTo>
                <a:cubicBezTo>
                  <a:pt x="9820" y="8772"/>
                  <a:pt x="9828" y="8806"/>
                  <a:pt x="9823" y="8731"/>
                </a:cubicBezTo>
              </a:path>
              <a:path w="5235" h="1514">
                <a:moveTo>
                  <a:pt x="9500" y="8409"/>
                </a:moveTo>
                <a:cubicBezTo>
                  <a:pt x="9781" y="8375"/>
                  <a:pt x="10065" y="8324"/>
                  <a:pt x="10344" y="8409"/>
                </a:cubicBezTo>
                <a:cubicBezTo>
                  <a:pt x="10392" y="8423"/>
                  <a:pt x="10370" y="8521"/>
                  <a:pt x="10393" y="8409"/>
                </a:cubicBezTo>
                <a:cubicBezTo>
                  <a:pt x="10322" y="8311"/>
                  <a:pt x="10038" y="8077"/>
                  <a:pt x="9996" y="8384"/>
                </a:cubicBezTo>
                <a:cubicBezTo>
                  <a:pt x="9942" y="8778"/>
                  <a:pt x="10508" y="8652"/>
                  <a:pt x="10691" y="8582"/>
                </a:cubicBezTo>
                <a:cubicBezTo>
                  <a:pt x="10716" y="8566"/>
                  <a:pt x="10740" y="8549"/>
                  <a:pt x="10765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73720" y="2830680"/>
            <a:ext cx="911160" cy="304560"/>
          </a:xfrm>
          <a:custGeom>
            <a:avLst/>
            <a:gdLst/>
            <a:ahLst/>
            <a:rect l="l" t="t" r="r" b="b"/>
            <a:pathLst>
              <a:path w="2531" h="844">
                <a:moveTo>
                  <a:pt x="12700" y="7888"/>
                </a:moveTo>
                <a:cubicBezTo>
                  <a:pt x="12816" y="8155"/>
                  <a:pt x="12879" y="8441"/>
                  <a:pt x="12998" y="8706"/>
                </a:cubicBezTo>
                <a:cubicBezTo>
                  <a:pt x="12998" y="8698"/>
                  <a:pt x="12998" y="8690"/>
                  <a:pt x="12998" y="8682"/>
                </a:cubicBezTo>
              </a:path>
              <a:path w="2531" h="844">
                <a:moveTo>
                  <a:pt x="12427" y="8285"/>
                </a:moveTo>
                <a:cubicBezTo>
                  <a:pt x="12719" y="8352"/>
                  <a:pt x="13151" y="8479"/>
                  <a:pt x="13320" y="8111"/>
                </a:cubicBezTo>
                <a:cubicBezTo>
                  <a:pt x="13320" y="7969"/>
                  <a:pt x="13330" y="7941"/>
                  <a:pt x="13295" y="7863"/>
                </a:cubicBezTo>
                <a:cubicBezTo>
                  <a:pt x="13338" y="8086"/>
                  <a:pt x="13394" y="8294"/>
                  <a:pt x="13469" y="8508"/>
                </a:cubicBezTo>
                <a:cubicBezTo>
                  <a:pt x="13469" y="8391"/>
                  <a:pt x="13450" y="8318"/>
                  <a:pt x="13494" y="8210"/>
                </a:cubicBezTo>
                <a:cubicBezTo>
                  <a:pt x="13621" y="7899"/>
                  <a:pt x="13848" y="8295"/>
                  <a:pt x="13915" y="8409"/>
                </a:cubicBezTo>
                <a:cubicBezTo>
                  <a:pt x="13932" y="8442"/>
                  <a:pt x="13948" y="8475"/>
                  <a:pt x="13965" y="8508"/>
                </a:cubicBezTo>
                <a:cubicBezTo>
                  <a:pt x="14136" y="8474"/>
                  <a:pt x="14155" y="8400"/>
                  <a:pt x="14188" y="8235"/>
                </a:cubicBezTo>
                <a:cubicBezTo>
                  <a:pt x="14208" y="8337"/>
                  <a:pt x="14214" y="8502"/>
                  <a:pt x="14362" y="8508"/>
                </a:cubicBezTo>
                <a:cubicBezTo>
                  <a:pt x="14643" y="8519"/>
                  <a:pt x="14691" y="8173"/>
                  <a:pt x="14784" y="7987"/>
                </a:cubicBezTo>
                <a:cubicBezTo>
                  <a:pt x="14864" y="8094"/>
                  <a:pt x="14994" y="8260"/>
                  <a:pt x="14957" y="8409"/>
                </a:cubicBezTo>
                <a:cubicBezTo>
                  <a:pt x="14881" y="8716"/>
                  <a:pt x="14527" y="8437"/>
                  <a:pt x="14436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49920" y="2776680"/>
            <a:ext cx="885960" cy="482400"/>
          </a:xfrm>
          <a:custGeom>
            <a:avLst/>
            <a:gdLst/>
            <a:ahLst/>
            <a:rect l="l" t="t" r="r" b="b"/>
            <a:pathLst>
              <a:path w="2457" h="1341">
                <a:moveTo>
                  <a:pt x="16098" y="8384"/>
                </a:moveTo>
                <a:cubicBezTo>
                  <a:pt x="16150" y="8530"/>
                  <a:pt x="16418" y="9007"/>
                  <a:pt x="16222" y="9029"/>
                </a:cubicBezTo>
                <a:cubicBezTo>
                  <a:pt x="16011" y="8496"/>
                  <a:pt x="15944" y="8251"/>
                  <a:pt x="16173" y="7739"/>
                </a:cubicBezTo>
                <a:cubicBezTo>
                  <a:pt x="16352" y="7837"/>
                  <a:pt x="16898" y="8298"/>
                  <a:pt x="16297" y="8359"/>
                </a:cubicBezTo>
                <a:cubicBezTo>
                  <a:pt x="16107" y="8317"/>
                  <a:pt x="16060" y="8322"/>
                  <a:pt x="15974" y="8235"/>
                </a:cubicBezTo>
              </a:path>
              <a:path w="2457" h="1341">
                <a:moveTo>
                  <a:pt x="17090" y="7739"/>
                </a:moveTo>
                <a:cubicBezTo>
                  <a:pt x="16795" y="7874"/>
                  <a:pt x="16716" y="8017"/>
                  <a:pt x="16694" y="8334"/>
                </a:cubicBezTo>
                <a:cubicBezTo>
                  <a:pt x="16978" y="8273"/>
                  <a:pt x="17081" y="8227"/>
                  <a:pt x="17066" y="7913"/>
                </a:cubicBezTo>
                <a:cubicBezTo>
                  <a:pt x="17139" y="8181"/>
                  <a:pt x="17251" y="8135"/>
                  <a:pt x="17487" y="8111"/>
                </a:cubicBezTo>
              </a:path>
              <a:path w="2457" h="1341">
                <a:moveTo>
                  <a:pt x="17537" y="7813"/>
                </a:moveTo>
                <a:cubicBezTo>
                  <a:pt x="17507" y="7865"/>
                  <a:pt x="17279" y="8532"/>
                  <a:pt x="17636" y="8235"/>
                </a:cubicBezTo>
                <a:cubicBezTo>
                  <a:pt x="17795" y="8103"/>
                  <a:pt x="17751" y="7884"/>
                  <a:pt x="17735" y="7714"/>
                </a:cubicBezTo>
                <a:cubicBezTo>
                  <a:pt x="17735" y="7722"/>
                  <a:pt x="17735" y="7731"/>
                  <a:pt x="17735" y="7739"/>
                </a:cubicBezTo>
                <a:cubicBezTo>
                  <a:pt x="17885" y="8020"/>
                  <a:pt x="18243" y="8514"/>
                  <a:pt x="17909" y="8806"/>
                </a:cubicBezTo>
                <a:cubicBezTo>
                  <a:pt x="17416" y="9237"/>
                  <a:pt x="17369" y="8653"/>
                  <a:pt x="17462" y="8359"/>
                </a:cubicBezTo>
              </a:path>
              <a:path w="2457" h="1341">
                <a:moveTo>
                  <a:pt x="18008" y="8012"/>
                </a:moveTo>
                <a:cubicBezTo>
                  <a:pt x="18130" y="7976"/>
                  <a:pt x="18228" y="7948"/>
                  <a:pt x="18355" y="7938"/>
                </a:cubicBezTo>
                <a:cubicBezTo>
                  <a:pt x="18340" y="7860"/>
                  <a:pt x="18197" y="7677"/>
                  <a:pt x="18107" y="7764"/>
                </a:cubicBezTo>
                <a:cubicBezTo>
                  <a:pt x="17834" y="8028"/>
                  <a:pt x="18273" y="8136"/>
                  <a:pt x="1843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66000" y="2571840"/>
            <a:ext cx="704880" cy="366480"/>
          </a:xfrm>
          <a:custGeom>
            <a:avLst/>
            <a:gdLst/>
            <a:ahLst/>
            <a:rect l="l" t="t" r="r" b="b"/>
            <a:pathLst>
              <a:path w="1960" h="1018">
                <a:moveTo>
                  <a:pt x="20042" y="7243"/>
                </a:moveTo>
                <a:cubicBezTo>
                  <a:pt x="19805" y="7114"/>
                  <a:pt x="19475" y="7118"/>
                  <a:pt x="19571" y="7541"/>
                </a:cubicBezTo>
                <a:cubicBezTo>
                  <a:pt x="19626" y="7784"/>
                  <a:pt x="20142" y="8217"/>
                  <a:pt x="19720" y="8062"/>
                </a:cubicBezTo>
              </a:path>
              <a:path w="1960" h="1018">
                <a:moveTo>
                  <a:pt x="19348" y="7789"/>
                </a:moveTo>
                <a:cubicBezTo>
                  <a:pt x="19712" y="7752"/>
                  <a:pt x="20060" y="7712"/>
                  <a:pt x="20414" y="7615"/>
                </a:cubicBezTo>
                <a:cubicBezTo>
                  <a:pt x="20346" y="7689"/>
                  <a:pt x="19999" y="8028"/>
                  <a:pt x="20290" y="8086"/>
                </a:cubicBezTo>
                <a:cubicBezTo>
                  <a:pt x="20625" y="8153"/>
                  <a:pt x="20837" y="7830"/>
                  <a:pt x="20538" y="7615"/>
                </a:cubicBezTo>
                <a:cubicBezTo>
                  <a:pt x="20488" y="7598"/>
                  <a:pt x="20439" y="7582"/>
                  <a:pt x="20389" y="7565"/>
                </a:cubicBezTo>
              </a:path>
              <a:path w="1960" h="1018">
                <a:moveTo>
                  <a:pt x="20886" y="7739"/>
                </a:moveTo>
                <a:cubicBezTo>
                  <a:pt x="20926" y="7839"/>
                  <a:pt x="20930" y="7857"/>
                  <a:pt x="20960" y="7913"/>
                </a:cubicBezTo>
                <a:cubicBezTo>
                  <a:pt x="20960" y="7692"/>
                  <a:pt x="20994" y="7623"/>
                  <a:pt x="21134" y="7441"/>
                </a:cubicBezTo>
                <a:cubicBezTo>
                  <a:pt x="21187" y="7372"/>
                  <a:pt x="21310" y="7260"/>
                  <a:pt x="21282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2880" y="3402000"/>
            <a:ext cx="2598480" cy="625320"/>
          </a:xfrm>
          <a:custGeom>
            <a:avLst/>
            <a:gdLst/>
            <a:ahLst/>
            <a:rect l="l" t="t" r="r" b="b"/>
            <a:pathLst>
              <a:path w="7219" h="1737">
                <a:moveTo>
                  <a:pt x="8880" y="10368"/>
                </a:moveTo>
                <a:cubicBezTo>
                  <a:pt x="8807" y="10659"/>
                  <a:pt x="8765" y="10887"/>
                  <a:pt x="8756" y="11187"/>
                </a:cubicBezTo>
              </a:path>
              <a:path w="7219" h="1737">
                <a:moveTo>
                  <a:pt x="14635" y="9723"/>
                </a:moveTo>
                <a:cubicBezTo>
                  <a:pt x="14358" y="9693"/>
                  <a:pt x="14120" y="9848"/>
                  <a:pt x="14039" y="10145"/>
                </a:cubicBezTo>
                <a:cubicBezTo>
                  <a:pt x="13898" y="10662"/>
                  <a:pt x="14532" y="10315"/>
                  <a:pt x="14660" y="10220"/>
                </a:cubicBezTo>
              </a:path>
              <a:path w="7219" h="1737">
                <a:moveTo>
                  <a:pt x="15032" y="9823"/>
                </a:moveTo>
                <a:cubicBezTo>
                  <a:pt x="15040" y="9951"/>
                  <a:pt x="15015" y="10188"/>
                  <a:pt x="15156" y="10244"/>
                </a:cubicBezTo>
                <a:cubicBezTo>
                  <a:pt x="15281" y="10244"/>
                  <a:pt x="15329" y="10222"/>
                  <a:pt x="15354" y="10096"/>
                </a:cubicBezTo>
              </a:path>
              <a:path w="7219" h="1737">
                <a:moveTo>
                  <a:pt x="14908" y="9475"/>
                </a:moveTo>
                <a:cubicBezTo>
                  <a:pt x="14908" y="9467"/>
                  <a:pt x="14908" y="9459"/>
                  <a:pt x="14908" y="9451"/>
                </a:cubicBezTo>
              </a:path>
              <a:path w="7219" h="1737">
                <a:moveTo>
                  <a:pt x="14908" y="9451"/>
                </a:moveTo>
                <a:lnTo>
                  <a:pt x="14908" y="9451"/>
                </a:lnTo>
              </a:path>
              <a:path w="7219" h="1737">
                <a:moveTo>
                  <a:pt x="15230" y="9723"/>
                </a:moveTo>
                <a:cubicBezTo>
                  <a:pt x="15476" y="9659"/>
                  <a:pt x="15722" y="9582"/>
                  <a:pt x="15974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4040" y="3562200"/>
            <a:ext cx="1062000" cy="474840"/>
          </a:xfrm>
          <a:custGeom>
            <a:avLst/>
            <a:gdLst/>
            <a:ahLst/>
            <a:rect l="l" t="t" r="r" b="b"/>
            <a:pathLst>
              <a:path w="2952" h="1316">
                <a:moveTo>
                  <a:pt x="8037" y="10815"/>
                </a:moveTo>
                <a:cubicBezTo>
                  <a:pt x="8184" y="10768"/>
                  <a:pt x="8334" y="10728"/>
                  <a:pt x="8483" y="10691"/>
                </a:cubicBezTo>
                <a:cubicBezTo>
                  <a:pt x="8437" y="10633"/>
                  <a:pt x="8215" y="10442"/>
                  <a:pt x="8111" y="10517"/>
                </a:cubicBezTo>
                <a:cubicBezTo>
                  <a:pt x="7865" y="10696"/>
                  <a:pt x="8059" y="11263"/>
                  <a:pt x="8384" y="11212"/>
                </a:cubicBezTo>
                <a:cubicBezTo>
                  <a:pt x="8450" y="11171"/>
                  <a:pt x="8516" y="11129"/>
                  <a:pt x="8582" y="11088"/>
                </a:cubicBezTo>
              </a:path>
              <a:path w="2952" h="1316">
                <a:moveTo>
                  <a:pt x="8607" y="10542"/>
                </a:moveTo>
                <a:cubicBezTo>
                  <a:pt x="8775" y="10681"/>
                  <a:pt x="8955" y="10868"/>
                  <a:pt x="9153" y="10939"/>
                </a:cubicBezTo>
              </a:path>
              <a:path w="2952" h="1316">
                <a:moveTo>
                  <a:pt x="9153" y="9897"/>
                </a:moveTo>
                <a:cubicBezTo>
                  <a:pt x="9262" y="10235"/>
                  <a:pt x="9289" y="10567"/>
                  <a:pt x="9351" y="10914"/>
                </a:cubicBezTo>
                <a:cubicBezTo>
                  <a:pt x="9370" y="10971"/>
                  <a:pt x="9379" y="11014"/>
                  <a:pt x="9376" y="10964"/>
                </a:cubicBezTo>
              </a:path>
              <a:path w="2952" h="1316">
                <a:moveTo>
                  <a:pt x="8979" y="10468"/>
                </a:moveTo>
                <a:cubicBezTo>
                  <a:pt x="9125" y="10437"/>
                  <a:pt x="9612" y="10244"/>
                  <a:pt x="9723" y="10393"/>
                </a:cubicBezTo>
                <a:cubicBezTo>
                  <a:pt x="9809" y="10508"/>
                  <a:pt x="9801" y="10727"/>
                  <a:pt x="9823" y="10864"/>
                </a:cubicBezTo>
                <a:cubicBezTo>
                  <a:pt x="9757" y="10667"/>
                  <a:pt x="9690" y="10526"/>
                  <a:pt x="9823" y="10319"/>
                </a:cubicBezTo>
                <a:cubicBezTo>
                  <a:pt x="9929" y="10239"/>
                  <a:pt x="9970" y="10214"/>
                  <a:pt x="10071" y="10244"/>
                </a:cubicBezTo>
              </a:path>
              <a:path w="2952" h="1316">
                <a:moveTo>
                  <a:pt x="10616" y="10468"/>
                </a:moveTo>
                <a:cubicBezTo>
                  <a:pt x="10616" y="10383"/>
                  <a:pt x="10609" y="10351"/>
                  <a:pt x="10542" y="10319"/>
                </a:cubicBezTo>
                <a:cubicBezTo>
                  <a:pt x="10253" y="10346"/>
                  <a:pt x="10214" y="10479"/>
                  <a:pt x="10170" y="10765"/>
                </a:cubicBezTo>
                <a:cubicBezTo>
                  <a:pt x="10467" y="10753"/>
                  <a:pt x="10514" y="10709"/>
                  <a:pt x="10567" y="10393"/>
                </a:cubicBezTo>
                <a:cubicBezTo>
                  <a:pt x="10670" y="10701"/>
                  <a:pt x="10694" y="10693"/>
                  <a:pt x="10988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9080" y="3330720"/>
            <a:ext cx="1357200" cy="465120"/>
          </a:xfrm>
          <a:custGeom>
            <a:avLst/>
            <a:gdLst/>
            <a:ahLst/>
            <a:rect l="l" t="t" r="r" b="b"/>
            <a:pathLst>
              <a:path w="3771" h="1291">
                <a:moveTo>
                  <a:pt x="12700" y="10021"/>
                </a:moveTo>
                <a:cubicBezTo>
                  <a:pt x="12794" y="10156"/>
                  <a:pt x="12788" y="10123"/>
                  <a:pt x="12650" y="10046"/>
                </a:cubicBezTo>
                <a:cubicBezTo>
                  <a:pt x="12601" y="10021"/>
                  <a:pt x="12551" y="9996"/>
                  <a:pt x="12502" y="9971"/>
                </a:cubicBezTo>
                <a:cubicBezTo>
                  <a:pt x="12329" y="10125"/>
                  <a:pt x="12130" y="10557"/>
                  <a:pt x="12601" y="10542"/>
                </a:cubicBezTo>
                <a:cubicBezTo>
                  <a:pt x="12880" y="10449"/>
                  <a:pt x="12969" y="10433"/>
                  <a:pt x="13022" y="10220"/>
                </a:cubicBezTo>
              </a:path>
              <a:path w="3771" h="1291">
                <a:moveTo>
                  <a:pt x="13022" y="10021"/>
                </a:moveTo>
                <a:cubicBezTo>
                  <a:pt x="13058" y="10202"/>
                  <a:pt x="13046" y="10241"/>
                  <a:pt x="13146" y="10393"/>
                </a:cubicBezTo>
                <a:cubicBezTo>
                  <a:pt x="13115" y="10234"/>
                  <a:pt x="13051" y="10166"/>
                  <a:pt x="13122" y="9996"/>
                </a:cubicBezTo>
                <a:cubicBezTo>
                  <a:pt x="13202" y="9807"/>
                  <a:pt x="13351" y="9892"/>
                  <a:pt x="13494" y="9922"/>
                </a:cubicBezTo>
              </a:path>
              <a:path w="3771" h="1291">
                <a:moveTo>
                  <a:pt x="13568" y="10096"/>
                </a:moveTo>
                <a:cubicBezTo>
                  <a:pt x="13689" y="10059"/>
                  <a:pt x="13833" y="10062"/>
                  <a:pt x="13940" y="10021"/>
                </a:cubicBezTo>
                <a:cubicBezTo>
                  <a:pt x="13738" y="9877"/>
                  <a:pt x="13518" y="9698"/>
                  <a:pt x="13469" y="10096"/>
                </a:cubicBezTo>
                <a:cubicBezTo>
                  <a:pt x="13399" y="10673"/>
                  <a:pt x="14068" y="10244"/>
                  <a:pt x="14263" y="10145"/>
                </a:cubicBezTo>
              </a:path>
              <a:path w="3771" h="1291">
                <a:moveTo>
                  <a:pt x="14461" y="9252"/>
                </a:moveTo>
                <a:cubicBezTo>
                  <a:pt x="14563" y="9565"/>
                  <a:pt x="14604" y="9888"/>
                  <a:pt x="14734" y="10195"/>
                </a:cubicBezTo>
                <a:cubicBezTo>
                  <a:pt x="14814" y="10384"/>
                  <a:pt x="14858" y="10305"/>
                  <a:pt x="14982" y="10220"/>
                </a:cubicBezTo>
              </a:path>
              <a:path w="3771" h="1291">
                <a:moveTo>
                  <a:pt x="15329" y="9252"/>
                </a:moveTo>
                <a:cubicBezTo>
                  <a:pt x="15401" y="9517"/>
                  <a:pt x="15415" y="9895"/>
                  <a:pt x="15577" y="10120"/>
                </a:cubicBezTo>
                <a:cubicBezTo>
                  <a:pt x="15732" y="10334"/>
                  <a:pt x="15980" y="10033"/>
                  <a:pt x="16073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554280"/>
            <a:ext cx="2814480" cy="830520"/>
          </a:xfrm>
          <a:custGeom>
            <a:avLst/>
            <a:gdLst/>
            <a:ahLst/>
            <a:rect l="l" t="t" r="r" b="b"/>
            <a:pathLst>
              <a:path w="7815" h="2308">
                <a:moveTo>
                  <a:pt x="12278" y="11261"/>
                </a:moveTo>
                <a:cubicBezTo>
                  <a:pt x="12444" y="11537"/>
                  <a:pt x="12548" y="11837"/>
                  <a:pt x="12626" y="12154"/>
                </a:cubicBezTo>
                <a:cubicBezTo>
                  <a:pt x="12626" y="12162"/>
                  <a:pt x="12626" y="12171"/>
                  <a:pt x="12626" y="12179"/>
                </a:cubicBezTo>
              </a:path>
              <a:path w="7815" h="2308">
                <a:moveTo>
                  <a:pt x="18107" y="10914"/>
                </a:moveTo>
                <a:cubicBezTo>
                  <a:pt x="17948" y="10779"/>
                  <a:pt x="17741" y="10758"/>
                  <a:pt x="17611" y="10988"/>
                </a:cubicBezTo>
                <a:cubicBezTo>
                  <a:pt x="17450" y="11274"/>
                  <a:pt x="17900" y="11505"/>
                  <a:pt x="18083" y="11261"/>
                </a:cubicBezTo>
                <a:cubicBezTo>
                  <a:pt x="18108" y="11178"/>
                  <a:pt x="18132" y="11096"/>
                  <a:pt x="18157" y="11013"/>
                </a:cubicBezTo>
              </a:path>
              <a:path w="7815" h="2308">
                <a:moveTo>
                  <a:pt x="19100" y="10765"/>
                </a:moveTo>
                <a:cubicBezTo>
                  <a:pt x="19229" y="10966"/>
                  <a:pt x="19312" y="11029"/>
                  <a:pt x="19546" y="11063"/>
                </a:cubicBezTo>
              </a:path>
              <a:path w="7815" h="2308">
                <a:moveTo>
                  <a:pt x="19496" y="10542"/>
                </a:moveTo>
                <a:cubicBezTo>
                  <a:pt x="19480" y="10928"/>
                  <a:pt x="19503" y="11280"/>
                  <a:pt x="19571" y="11658"/>
                </a:cubicBezTo>
                <a:cubicBezTo>
                  <a:pt x="19571" y="11666"/>
                  <a:pt x="19571" y="11675"/>
                  <a:pt x="19571" y="11683"/>
                </a:cubicBezTo>
              </a:path>
              <a:path w="7815" h="2308">
                <a:moveTo>
                  <a:pt x="19496" y="9872"/>
                </a:moveTo>
                <a:cubicBezTo>
                  <a:pt x="19888" y="10363"/>
                  <a:pt x="20202" y="10625"/>
                  <a:pt x="19993" y="11261"/>
                </a:cubicBezTo>
                <a:cubicBezTo>
                  <a:pt x="19976" y="11294"/>
                  <a:pt x="19960" y="11328"/>
                  <a:pt x="19943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6880" y="4054320"/>
            <a:ext cx="965160" cy="463680"/>
          </a:xfrm>
          <a:custGeom>
            <a:avLst/>
            <a:gdLst/>
            <a:ahLst/>
            <a:rect l="l" t="t" r="r" b="b"/>
            <a:pathLst>
              <a:path w="2680" h="1291">
                <a:moveTo>
                  <a:pt x="11534" y="11261"/>
                </a:moveTo>
                <a:cubicBezTo>
                  <a:pt x="11472" y="11650"/>
                  <a:pt x="11290" y="12073"/>
                  <a:pt x="11509" y="12452"/>
                </a:cubicBezTo>
                <a:cubicBezTo>
                  <a:pt x="11631" y="12664"/>
                  <a:pt x="11865" y="12557"/>
                  <a:pt x="11956" y="12427"/>
                </a:cubicBezTo>
              </a:path>
              <a:path w="2680" h="1291">
                <a:moveTo>
                  <a:pt x="12650" y="12055"/>
                </a:moveTo>
                <a:cubicBezTo>
                  <a:pt x="12650" y="11959"/>
                  <a:pt x="12564" y="11851"/>
                  <a:pt x="12452" y="11857"/>
                </a:cubicBezTo>
                <a:cubicBezTo>
                  <a:pt x="12270" y="11867"/>
                  <a:pt x="11914" y="12345"/>
                  <a:pt x="12179" y="12452"/>
                </a:cubicBezTo>
                <a:cubicBezTo>
                  <a:pt x="12421" y="12425"/>
                  <a:pt x="12508" y="12403"/>
                  <a:pt x="12601" y="12229"/>
                </a:cubicBezTo>
              </a:path>
              <a:path w="2680" h="1291">
                <a:moveTo>
                  <a:pt x="12799" y="11633"/>
                </a:moveTo>
                <a:cubicBezTo>
                  <a:pt x="12807" y="11886"/>
                  <a:pt x="12768" y="12097"/>
                  <a:pt x="12973" y="12229"/>
                </a:cubicBezTo>
                <a:cubicBezTo>
                  <a:pt x="13189" y="12012"/>
                  <a:pt x="13235" y="11892"/>
                  <a:pt x="13146" y="11584"/>
                </a:cubicBezTo>
                <a:cubicBezTo>
                  <a:pt x="13146" y="11641"/>
                  <a:pt x="13199" y="11938"/>
                  <a:pt x="13246" y="12080"/>
                </a:cubicBezTo>
                <a:cubicBezTo>
                  <a:pt x="13287" y="12160"/>
                  <a:pt x="13322" y="12155"/>
                  <a:pt x="13395" y="12030"/>
                </a:cubicBezTo>
              </a:path>
              <a:path w="2680" h="1291">
                <a:moveTo>
                  <a:pt x="13568" y="11757"/>
                </a:moveTo>
                <a:cubicBezTo>
                  <a:pt x="13679" y="11655"/>
                  <a:pt x="13765" y="11625"/>
                  <a:pt x="13915" y="11584"/>
                </a:cubicBezTo>
                <a:cubicBezTo>
                  <a:pt x="13699" y="11522"/>
                  <a:pt x="13535" y="11534"/>
                  <a:pt x="13519" y="11832"/>
                </a:cubicBezTo>
                <a:cubicBezTo>
                  <a:pt x="13494" y="12289"/>
                  <a:pt x="13893" y="12005"/>
                  <a:pt x="1408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4080" y="3848040"/>
            <a:ext cx="822600" cy="393840"/>
          </a:xfrm>
          <a:custGeom>
            <a:avLst/>
            <a:gdLst/>
            <a:ahLst/>
            <a:rect l="l" t="t" r="r" b="b"/>
            <a:pathLst>
              <a:path w="2283" h="1092">
                <a:moveTo>
                  <a:pt x="15180" y="10840"/>
                </a:moveTo>
                <a:cubicBezTo>
                  <a:pt x="15247" y="11153"/>
                  <a:pt x="15276" y="12092"/>
                  <a:pt x="15354" y="11782"/>
                </a:cubicBezTo>
                <a:cubicBezTo>
                  <a:pt x="15354" y="11732"/>
                  <a:pt x="15354" y="11683"/>
                  <a:pt x="15354" y="11633"/>
                </a:cubicBezTo>
              </a:path>
              <a:path w="2283" h="1092">
                <a:moveTo>
                  <a:pt x="15180" y="10790"/>
                </a:moveTo>
                <a:cubicBezTo>
                  <a:pt x="15433" y="11033"/>
                  <a:pt x="15639" y="11302"/>
                  <a:pt x="15850" y="11584"/>
                </a:cubicBezTo>
                <a:cubicBezTo>
                  <a:pt x="15907" y="11659"/>
                  <a:pt x="15911" y="11671"/>
                  <a:pt x="15949" y="11708"/>
                </a:cubicBezTo>
                <a:cubicBezTo>
                  <a:pt x="15907" y="11525"/>
                  <a:pt x="15882" y="11329"/>
                  <a:pt x="15875" y="11137"/>
                </a:cubicBezTo>
                <a:cubicBezTo>
                  <a:pt x="15875" y="10889"/>
                  <a:pt x="15883" y="10838"/>
                  <a:pt x="15850" y="10691"/>
                </a:cubicBezTo>
                <a:cubicBezTo>
                  <a:pt x="15925" y="10975"/>
                  <a:pt x="15985" y="11260"/>
                  <a:pt x="16098" y="11534"/>
                </a:cubicBezTo>
                <a:cubicBezTo>
                  <a:pt x="16163" y="11664"/>
                  <a:pt x="16167" y="11719"/>
                  <a:pt x="16272" y="11658"/>
                </a:cubicBezTo>
              </a:path>
              <a:path w="2283" h="1092">
                <a:moveTo>
                  <a:pt x="16619" y="11038"/>
                </a:moveTo>
                <a:cubicBezTo>
                  <a:pt x="16387" y="11051"/>
                  <a:pt x="16162" y="11310"/>
                  <a:pt x="16297" y="11584"/>
                </a:cubicBezTo>
                <a:cubicBezTo>
                  <a:pt x="16428" y="11849"/>
                  <a:pt x="16970" y="11590"/>
                  <a:pt x="16793" y="11311"/>
                </a:cubicBezTo>
                <a:cubicBezTo>
                  <a:pt x="16638" y="11200"/>
                  <a:pt x="16599" y="11171"/>
                  <a:pt x="16495" y="11112"/>
                </a:cubicBezTo>
              </a:path>
              <a:path w="2283" h="1092">
                <a:moveTo>
                  <a:pt x="16917" y="11385"/>
                </a:moveTo>
                <a:cubicBezTo>
                  <a:pt x="17055" y="11470"/>
                  <a:pt x="16871" y="11159"/>
                  <a:pt x="17016" y="10988"/>
                </a:cubicBezTo>
                <a:cubicBezTo>
                  <a:pt x="17242" y="10721"/>
                  <a:pt x="17449" y="11159"/>
                  <a:pt x="17462" y="11336"/>
                </a:cubicBezTo>
                <a:cubicBezTo>
                  <a:pt x="17444" y="11427"/>
                  <a:pt x="17436" y="11434"/>
                  <a:pt x="17438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38960" y="3697200"/>
            <a:ext cx="463320" cy="3668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17884" y="10269"/>
                </a:moveTo>
                <a:cubicBezTo>
                  <a:pt x="18005" y="10589"/>
                  <a:pt x="18125" y="10904"/>
                  <a:pt x="18207" y="11237"/>
                </a:cubicBezTo>
                <a:cubicBezTo>
                  <a:pt x="18207" y="11294"/>
                  <a:pt x="18227" y="11276"/>
                  <a:pt x="18281" y="11162"/>
                </a:cubicBezTo>
              </a:path>
              <a:path w="1291" h="1018">
                <a:moveTo>
                  <a:pt x="18777" y="10691"/>
                </a:moveTo>
                <a:cubicBezTo>
                  <a:pt x="18538" y="10710"/>
                  <a:pt x="18450" y="10932"/>
                  <a:pt x="18331" y="11137"/>
                </a:cubicBezTo>
                <a:cubicBezTo>
                  <a:pt x="18472" y="11270"/>
                  <a:pt x="18828" y="11387"/>
                  <a:pt x="18827" y="11013"/>
                </a:cubicBezTo>
                <a:cubicBezTo>
                  <a:pt x="18773" y="10907"/>
                  <a:pt x="18748" y="10904"/>
                  <a:pt x="18752" y="10840"/>
                </a:cubicBezTo>
                <a:cubicBezTo>
                  <a:pt x="18895" y="11021"/>
                  <a:pt x="18958" y="11098"/>
                  <a:pt x="1917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joy your week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1:31:47Z</dcterms:created>
  <dc:creator>Brian McGrath</dc:creator>
  <dc:description/>
  <dc:language>en-US</dc:language>
  <cp:lastModifiedBy>demcgra</cp:lastModifiedBy>
  <dcterms:modified xsi:type="dcterms:W3CDTF">2012-03-09T20:26:55Z</dcterms:modified>
  <cp:revision>2</cp:revision>
  <dc:subject/>
  <dc:title>Warm-up:</dc:title>
</cp:coreProperties>
</file>